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6858000" cy="9144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2"/>
          <p:cNvSpPr/>
          <p:nvPr/>
        </p:nvSpPr>
        <p:spPr>
          <a:xfrm>
            <a:off x="914400" y="3390840"/>
            <a:ext cx="5029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7200" spc="-1" strike="noStrike">
                <a:solidFill>
                  <a:srgbClr val="000000"/>
                </a:solidFill>
                <a:latin typeface="Times New Roman"/>
              </a:rPr>
              <a:t>Seccion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52280" y="3390840"/>
            <a:ext cx="6553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800" spc="-1" strike="noStrike">
                <a:solidFill>
                  <a:srgbClr val="000000"/>
                </a:solidFill>
                <a:latin typeface="Century Schoolbook"/>
              </a:rPr>
              <a:t>Matrícula Inicial 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800" spc="-1" strike="noStrike">
                <a:solidFill>
                  <a:srgbClr val="000000"/>
                </a:solidFill>
                <a:latin typeface="Century Schoolbook"/>
              </a:rPr>
              <a:t>en III Ciclo 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800" spc="-1" strike="noStrike">
                <a:solidFill>
                  <a:srgbClr val="000000"/>
                </a:solidFill>
                <a:latin typeface="Century Schoolbook"/>
              </a:rPr>
              <a:t>y Educación Diversificada,  Diurna y Nocturna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52280" y="3390840"/>
            <a:ext cx="6553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Matrícula Inicial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en Escuelas Nocturn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52280" y="3390840"/>
            <a:ext cx="6553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Matrícula Inicial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en I y II Cicl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52280" y="3390840"/>
            <a:ext cx="6553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Matrícula Inicial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en Educación Preescola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52280" y="3390840"/>
            <a:ext cx="6553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Resumen de Matrícula Inicial,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20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52280" y="3390840"/>
            <a:ext cx="6553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Serie Históric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de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Matrícula Inicial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26"/>
          <p:cNvSpPr/>
          <p:nvPr/>
        </p:nvSpPr>
        <p:spPr>
          <a:xfrm>
            <a:off x="152280" y="3390840"/>
            <a:ext cx="6553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Institucione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y Servicios Educativ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26"/>
          <p:cNvSpPr/>
          <p:nvPr/>
        </p:nvSpPr>
        <p:spPr>
          <a:xfrm>
            <a:off x="152280" y="3390840"/>
            <a:ext cx="6553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Tasa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Brutas y Neta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de Escolarida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52280" y="3390840"/>
            <a:ext cx="6553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Matrícula Inicial,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Según País de Procedenci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52280" y="3390840"/>
            <a:ext cx="6553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Indicadores 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I y II Ciclos,por Tipo de Dire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52280" y="3390840"/>
            <a:ext cx="6553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Matrícula Inicial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en Educación Especi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52280" y="3390840"/>
            <a:ext cx="6553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Matrícula Inicial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en III Ciclo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y Educación Diversificada, Nocturn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152280" y="3390840"/>
            <a:ext cx="6553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Matrícula Inicial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en III Ciclo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y Educación Diversificada, Técnica Diurn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52280" y="3390840"/>
            <a:ext cx="6553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800" spc="-1" strike="noStrike">
                <a:solidFill>
                  <a:srgbClr val="000000"/>
                </a:solidFill>
                <a:latin typeface="Century Schoolbook"/>
              </a:rPr>
              <a:t>Matrícula Inicial 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800" spc="-1" strike="noStrike">
                <a:solidFill>
                  <a:srgbClr val="000000"/>
                </a:solidFill>
                <a:latin typeface="Century Schoolbook"/>
              </a:rPr>
              <a:t>en III Ciclo 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800" spc="-1" strike="noStrike">
                <a:solidFill>
                  <a:srgbClr val="000000"/>
                </a:solidFill>
                <a:latin typeface="Century Schoolbook"/>
              </a:rPr>
              <a:t>y Educación Diversificada, Académica Diurna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8T10:51:30Z</dcterms:created>
  <dc:creator>DIXIE BRENES VINDAS</dc:creator>
  <dc:description/>
  <cp:keywords/>
  <dc:language>en-US</dc:language>
  <cp:lastModifiedBy>mquiros</cp:lastModifiedBy>
  <cp:lastPrinted>1999-08-09T16:29:38Z</cp:lastPrinted>
  <dcterms:modified xsi:type="dcterms:W3CDTF">2011-06-10T16:14:40Z</dcterms:modified>
  <cp:revision>29</cp:revision>
  <dc:subject/>
  <dc:title>Serie Histórica  de la Matrícula Inicial</dc:title>
</cp:coreProperties>
</file>