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664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9920" indent="-2142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6880" indent="-2127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25400" y="2679480"/>
            <a:ext cx="6832440" cy="1320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EDUCACIÓN </a:t>
            </a:r>
            <a:br>
              <a:rPr sz="5100"/>
            </a:b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PREESCOLAR</a:t>
            </a:r>
            <a:br>
              <a:rPr sz="5100"/>
            </a:b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INDEPENDIENT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550960"/>
            <a:ext cx="6807240" cy="1532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COLEGIOS  </a:t>
            </a:r>
            <a:br>
              <a:rPr sz="5100"/>
            </a:b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ACADÉMICOS</a:t>
            </a:r>
            <a:br>
              <a:rPr sz="5100"/>
            </a:b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 DIURNO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133360"/>
            <a:ext cx="6783480" cy="28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4700" spc="-1" strike="noStrike">
                <a:solidFill>
                  <a:srgbClr val="2f2f2f"/>
                </a:solidFill>
                <a:latin typeface="Times New Roman"/>
              </a:rPr>
              <a:t>CENTROS INTEGRADOS DE EDUCACIÓN DE ADULTOS (CINDEA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2133360"/>
            <a:ext cx="6766200" cy="28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4700" spc="-1" strike="noStrike">
                <a:solidFill>
                  <a:srgbClr val="2f2f2f"/>
                </a:solidFill>
                <a:latin typeface="Times New Roman"/>
              </a:rPr>
              <a:t>INSTITUTOS PROFESIONALES DE EDUCACIÓN COMUNITARIA (IPEC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25400" y="2679480"/>
            <a:ext cx="6832440" cy="1320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4800" spc="-1" strike="noStrike">
                <a:solidFill>
                  <a:srgbClr val="2f2f2f"/>
                </a:solidFill>
                <a:latin typeface="Times New Roman"/>
              </a:rPr>
              <a:t>PROGRAMA NUEVAS OPORTUNIDADES</a:t>
            </a:r>
            <a:br>
              <a:rPr sz="4800"/>
            </a:br>
            <a:r>
              <a:rPr b="1" i="1" lang="en-US" sz="4800" spc="-1" strike="noStrike">
                <a:solidFill>
                  <a:srgbClr val="2f2f2f"/>
                </a:solidFill>
                <a:latin typeface="Times New Roman"/>
              </a:rPr>
              <a:t>EDUCATIVAS PARA JÓVENES (PNOEJ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25400" y="2679480"/>
            <a:ext cx="6832440" cy="1320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TELESECUNDARIA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6858000" cy="2168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I Y II CICLO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6858000" cy="2168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ESCUELAS NOCTURNA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060280"/>
            <a:ext cx="6859440" cy="1940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COLEGIOS TÉCNICOS </a:t>
            </a:r>
            <a:br>
              <a:rPr sz="5100"/>
            </a:b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DIURNOS Y NOCTURNO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64800" y="2857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COLEGIOS </a:t>
            </a:r>
            <a:br>
              <a:rPr sz="5100"/>
            </a:b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ACADÉMICOS </a:t>
            </a:r>
            <a:br>
              <a:rPr sz="5100"/>
            </a:b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NOCTURNO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2000" y="2616120"/>
            <a:ext cx="6705720" cy="1384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CENTROS DE EDUCACIÓN </a:t>
            </a:r>
            <a:br>
              <a:rPr sz="5100"/>
            </a:br>
            <a:r>
              <a:rPr b="1" i="1" lang="en-US" sz="5100" spc="-1" strike="noStrike">
                <a:solidFill>
                  <a:srgbClr val="2f2f2f"/>
                </a:solidFill>
                <a:latin typeface="Times New Roman"/>
              </a:rPr>
              <a:t>ESPECI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2360" y="1628640"/>
            <a:ext cx="6750000" cy="360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CR" sz="4800" spc="-1" strike="noStrike">
                <a:solidFill>
                  <a:srgbClr val="000000"/>
                </a:solidFill>
                <a:latin typeface="Times New Roman"/>
              </a:rPr>
              <a:t>CENTROS DE ATENCIÓN INTEGRAL PARA ADULTOS CON DISCAPACIDAD (CAIPAD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1:41:34Z</dcterms:created>
  <dc:creator/>
  <dc:description/>
  <cp:keywords/>
  <dc:language>en-US</dc:language>
  <cp:lastModifiedBy>mquiros</cp:lastModifiedBy>
  <cp:lastPrinted>1998-07-28T13:43:46Z</cp:lastPrinted>
  <dcterms:modified xsi:type="dcterms:W3CDTF">2010-05-20T19:46:56Z</dcterms:modified>
  <cp:revision>39</cp:revision>
  <dc:subject/>
  <dc:title>EDUCACIÓN  PREESCOLAR</dc:title>
</cp:coreProperties>
</file>