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2200" indent="-3222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5160" indent="-26640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9920" indent="-2142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6880" indent="-21276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925640" indent="-2160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925640" indent="-2160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925640" indent="-2160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4280" y="2642760"/>
            <a:ext cx="6832800" cy="1320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es-ES_tradnl" sz="5100" spc="-1" strike="noStrike">
                <a:solidFill>
                  <a:srgbClr val="000000"/>
                </a:solidFill>
                <a:latin typeface="Times New Roman"/>
              </a:rPr>
              <a:t>EDUCACIÓN </a:t>
            </a:r>
            <a:br>
              <a:rPr sz="5100"/>
            </a:br>
            <a:r>
              <a:rPr b="1" i="1" lang="es-ES_tradnl" sz="5100" spc="-1" strike="noStrike">
                <a:solidFill>
                  <a:srgbClr val="000000"/>
                </a:solidFill>
                <a:latin typeface="Times New Roman"/>
              </a:rPr>
              <a:t>PREESCOLAR</a:t>
            </a:r>
            <a:br>
              <a:rPr sz="5100"/>
            </a:br>
            <a:r>
              <a:rPr b="1" i="1" lang="es-ES_tradnl" sz="5100" spc="-1" strike="noStrike">
                <a:solidFill>
                  <a:srgbClr val="000000"/>
                </a:solidFill>
                <a:latin typeface="Times New Roman"/>
              </a:rPr>
              <a:t>INDEPENDIENTE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85560" y="2714400"/>
            <a:ext cx="6832440" cy="1320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es-ES_tradnl" sz="4800" spc="-1" strike="noStrike">
                <a:solidFill>
                  <a:srgbClr val="000000"/>
                </a:solidFill>
                <a:latin typeface="Times New Roman"/>
              </a:rPr>
              <a:t>COLEGIOS NACIONALES VIRTUALES MARCO TULIO SALAZ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7280" y="2421000"/>
            <a:ext cx="6858000" cy="2168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es-ES_tradnl" sz="5100" spc="-1" strike="noStrike">
                <a:solidFill>
                  <a:srgbClr val="000000"/>
                </a:solidFill>
                <a:latin typeface="Times New Roman"/>
              </a:rPr>
              <a:t>ESCUELAS</a:t>
            </a:r>
            <a:br>
              <a:rPr sz="5100"/>
            </a:br>
            <a:r>
              <a:rPr b="1" i="1" lang="es-ES_tradnl" sz="5100" spc="-1" strike="noStrike">
                <a:solidFill>
                  <a:srgbClr val="000000"/>
                </a:solidFill>
                <a:latin typeface="Times New Roman"/>
              </a:rPr>
              <a:t> DIURNAS</a:t>
            </a:r>
            <a:br>
              <a:rPr sz="5100"/>
            </a:b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2421000"/>
            <a:ext cx="6858000" cy="2168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es-ES_tradnl" sz="5100" spc="-1" strike="noStrike">
                <a:solidFill>
                  <a:srgbClr val="000000"/>
                </a:solidFill>
                <a:latin typeface="Times New Roman"/>
              </a:rPr>
              <a:t>ESCUELAS NOCTURNAS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6000" y="2060280"/>
            <a:ext cx="6859440" cy="19400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es-ES_tradnl" sz="5100" spc="-1" strike="noStrike">
                <a:solidFill>
                  <a:srgbClr val="000000"/>
                </a:solidFill>
                <a:latin typeface="Times New Roman"/>
              </a:rPr>
              <a:t>COLEGIOS </a:t>
            </a:r>
            <a:br>
              <a:rPr sz="5100"/>
            </a:br>
            <a:r>
              <a:rPr b="1" i="1" lang="es-ES_tradnl" sz="5100" spc="-1" strike="noStrike">
                <a:solidFill>
                  <a:srgbClr val="000000"/>
                </a:solidFill>
                <a:latin typeface="Times New Roman"/>
              </a:rPr>
              <a:t>DIURNOS Y NOCTURNOS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22000" y="2616120"/>
            <a:ext cx="6705720" cy="1384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es-ES_tradnl" sz="5100" spc="-1" strike="noStrike">
                <a:solidFill>
                  <a:srgbClr val="000000"/>
                </a:solidFill>
                <a:latin typeface="Times New Roman"/>
              </a:rPr>
              <a:t>CENTROS DE ENSEÑANZA</a:t>
            </a:r>
            <a:br>
              <a:rPr sz="5100"/>
            </a:br>
            <a:r>
              <a:rPr b="1" i="1" lang="es-ES_tradnl" sz="5100" spc="-1" strike="noStrike">
                <a:solidFill>
                  <a:srgbClr val="000000"/>
                </a:solidFill>
                <a:latin typeface="Times New Roman"/>
              </a:rPr>
              <a:t>ESPECIAL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22360" y="1628640"/>
            <a:ext cx="6750000" cy="3600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es-CR" sz="4800" spc="-1" strike="noStrike">
                <a:solidFill>
                  <a:srgbClr val="000000"/>
                </a:solidFill>
                <a:latin typeface="Times New Roman"/>
              </a:rPr>
              <a:t>CENTROS DE ATENCIÓN INTEGRAL PARA ADULTOS CON DISCAPACIDAD (CAIPAD</a:t>
            </a: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2920" y="2133360"/>
            <a:ext cx="6783480" cy="28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es-ES_tradnl" sz="4700" spc="-1" strike="noStrike">
                <a:solidFill>
                  <a:srgbClr val="000000"/>
                </a:solidFill>
                <a:latin typeface="Times New Roman"/>
              </a:rPr>
              <a:t>CENTROS INTEGRADOS DE EDUCACIÓN DE ADULTOS (CINDEA)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47280" y="2133360"/>
            <a:ext cx="6766200" cy="28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es-ES_tradnl" sz="4700" spc="-1" strike="noStrike">
                <a:solidFill>
                  <a:srgbClr val="000000"/>
                </a:solidFill>
                <a:latin typeface="Times New Roman"/>
              </a:rPr>
              <a:t>INSTITUTOS PROFESIONALES DE EDUCACIÓN COMUNITARIA (IPEC)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2T11:41:34Z</dcterms:created>
  <dc:creator/>
  <dc:description/>
  <cp:keywords/>
  <dc:language>en-US</dc:language>
  <cp:lastModifiedBy>mquiros</cp:lastModifiedBy>
  <cp:lastPrinted>1998-07-28T13:43:46Z</cp:lastPrinted>
  <dcterms:modified xsi:type="dcterms:W3CDTF">2012-06-05T18:21:27Z</dcterms:modified>
  <cp:revision>43</cp:revision>
  <dc:subject/>
  <dc:title>EDUCACIÓN  PREESCOLAR</dc:title>
</cp:coreProperties>
</file>