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FE6-DA7C-4530-9AD9-3A8F6123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EDB-51CC-44E6-8561-662C7242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8DD-99C0-4DAF-B05E-1C6847A5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955-6974-43D6-A954-6B523AB7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1B2-CC6E-4F5C-AE8F-B3F9D050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BE3-40B8-4EB1-A68F-07457029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D25-CE03-4763-99C1-5DF0A642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EB1-6689-44F2-ADA5-F9C7F71A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ADB-EBE4-4283-83CA-4B70A7E1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47F-18FB-4608-9D61-2C1412CB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46E-DB82-4C1A-B4CF-10CFB0F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C53-032B-4775-8444-8CBF45C5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9183-C062-4505-BE6E-82571CB09D1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4357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254061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254061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254061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1714680"/>
            <a:ext cx="64008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Britannic Bold"/>
              </a:rPr>
              <a:t>NÓMINA DE CENTROS EDUCATIVOS, CLASIFICADOS POR DIRECCIÓN REGIONAL Y CIRCUITO,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2643120" y="5857920"/>
            <a:ext cx="300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JUNIO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6215040" y="521496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254061"/>
                </a:solidFill>
                <a:latin typeface="Calibri"/>
              </a:rPr>
              <a:t> Nº 335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7143840" y="642960"/>
            <a:ext cx="13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254061"/>
                </a:solidFill>
                <a:latin typeface="Calibri"/>
              </a:rPr>
              <a:t>ISSN-1409-046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3214800" y="3357720"/>
            <a:ext cx="2509560" cy="2050920"/>
            <a:chOff x="3214800" y="3357720"/>
            <a:chExt cx="2509560" cy="2050920"/>
          </a:xfrm>
        </p:grpSpPr>
        <p:sp>
          <p:nvSpPr>
            <p:cNvPr id="47" name="AutoShape 10"/>
            <p:cNvSpPr/>
            <p:nvPr/>
          </p:nvSpPr>
          <p:spPr>
            <a:xfrm>
              <a:off x="3214800" y="3357720"/>
              <a:ext cx="2509560" cy="20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4244400" y="3715200"/>
              <a:ext cx="828000" cy="673920"/>
            </a:xfrm>
            <a:custGeom>
              <a:avLst/>
              <a:gdLst>
                <a:gd name="textAreaLeft" fmla="*/ 0 w 828000"/>
                <a:gd name="textAreaRight" fmla="*/ 828360 w 82800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1220" h="991">
                  <a:moveTo>
                    <a:pt x="1220" y="0"/>
                  </a:moveTo>
                  <a:lnTo>
                    <a:pt x="1220" y="252"/>
                  </a:lnTo>
                  <a:lnTo>
                    <a:pt x="0" y="991"/>
                  </a:lnTo>
                  <a:lnTo>
                    <a:pt x="0" y="739"/>
                  </a:lnTo>
                  <a:lnTo>
                    <a:pt x="1220" y="0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4244400" y="3715200"/>
              <a:ext cx="828000" cy="673920"/>
            </a:xfrm>
            <a:custGeom>
              <a:avLst/>
              <a:gdLst>
                <a:gd name="textAreaLeft" fmla="*/ 0 w 828000"/>
                <a:gd name="textAreaRight" fmla="*/ 828360 w 82800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1220" h="991">
                  <a:moveTo>
                    <a:pt x="1220" y="0"/>
                  </a:moveTo>
                  <a:lnTo>
                    <a:pt x="1220" y="252"/>
                  </a:lnTo>
                  <a:lnTo>
                    <a:pt x="0" y="991"/>
                  </a:lnTo>
                  <a:lnTo>
                    <a:pt x="0" y="739"/>
                  </a:lnTo>
                  <a:lnTo>
                    <a:pt x="12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3927600" y="3402720"/>
              <a:ext cx="316440" cy="9864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986400"/>
                <a:gd name="textAreaBottom" fmla="*/ 986760 h 986400"/>
              </a:gdLst>
              <a:ahLst/>
              <a:rect l="textAreaLeft" t="textAreaTop" r="textAreaRight" b="textAreaBottom"/>
              <a:pathLst>
                <a:path w="466" h="1450">
                  <a:moveTo>
                    <a:pt x="0" y="0"/>
                  </a:moveTo>
                  <a:lnTo>
                    <a:pt x="0" y="252"/>
                  </a:lnTo>
                  <a:lnTo>
                    <a:pt x="466" y="1450"/>
                  </a:lnTo>
                  <a:lnTo>
                    <a:pt x="466" y="1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3927600" y="3402720"/>
              <a:ext cx="316440" cy="9864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986400"/>
                <a:gd name="textAreaBottom" fmla="*/ 986760 h 986400"/>
              </a:gdLst>
              <a:ahLst/>
              <a:rect l="textAreaLeft" t="textAreaTop" r="textAreaRight" b="textAreaBottom"/>
              <a:pathLst>
                <a:path w="466" h="1450">
                  <a:moveTo>
                    <a:pt x="0" y="0"/>
                  </a:moveTo>
                  <a:lnTo>
                    <a:pt x="0" y="252"/>
                  </a:lnTo>
                  <a:lnTo>
                    <a:pt x="466" y="1450"/>
                  </a:lnTo>
                  <a:lnTo>
                    <a:pt x="466" y="119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6"/>
            <p:cNvSpPr/>
            <p:nvPr/>
          </p:nvSpPr>
          <p:spPr>
            <a:xfrm>
              <a:off x="4536720" y="4137840"/>
              <a:ext cx="1024200" cy="17136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7"/>
            <p:cNvSpPr/>
            <p:nvPr/>
          </p:nvSpPr>
          <p:spPr>
            <a:xfrm>
              <a:off x="4537800" y="4140360"/>
              <a:ext cx="1021320" cy="167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8"/>
            <p:cNvSpPr/>
            <p:nvPr/>
          </p:nvSpPr>
          <p:spPr>
            <a:xfrm>
              <a:off x="3414600" y="4216680"/>
              <a:ext cx="829440" cy="67536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1219" h="993">
                  <a:moveTo>
                    <a:pt x="0" y="741"/>
                  </a:moveTo>
                  <a:lnTo>
                    <a:pt x="0" y="993"/>
                  </a:lnTo>
                  <a:lnTo>
                    <a:pt x="1219" y="252"/>
                  </a:lnTo>
                  <a:lnTo>
                    <a:pt x="1219" y="0"/>
                  </a:lnTo>
                  <a:lnTo>
                    <a:pt x="0" y="741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9"/>
            <p:cNvSpPr/>
            <p:nvPr/>
          </p:nvSpPr>
          <p:spPr>
            <a:xfrm>
              <a:off x="3414600" y="4216680"/>
              <a:ext cx="829440" cy="67536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1219" h="993">
                  <a:moveTo>
                    <a:pt x="0" y="741"/>
                  </a:moveTo>
                  <a:lnTo>
                    <a:pt x="0" y="993"/>
                  </a:lnTo>
                  <a:lnTo>
                    <a:pt x="1219" y="252"/>
                  </a:lnTo>
                  <a:lnTo>
                    <a:pt x="1219" y="0"/>
                  </a:lnTo>
                  <a:lnTo>
                    <a:pt x="0" y="7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0"/>
            <p:cNvSpPr/>
            <p:nvPr/>
          </p:nvSpPr>
          <p:spPr>
            <a:xfrm>
              <a:off x="3217320" y="4216680"/>
              <a:ext cx="198000" cy="6768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0"/>
                <a:gd name="textAreaBottom" fmla="*/ 677160 h 676800"/>
              </a:gdLst>
              <a:ahLst/>
              <a:rect l="textAreaLeft" t="textAreaTop" r="textAreaRight" b="textAreaBottom"/>
              <a:pathLst>
                <a:path w="291" h="995">
                  <a:moveTo>
                    <a:pt x="291" y="743"/>
                  </a:moveTo>
                  <a:lnTo>
                    <a:pt x="226" y="663"/>
                  </a:lnTo>
                  <a:lnTo>
                    <a:pt x="168" y="579"/>
                  </a:lnTo>
                  <a:lnTo>
                    <a:pt x="118" y="490"/>
                  </a:lnTo>
                  <a:lnTo>
                    <a:pt x="77" y="398"/>
                  </a:lnTo>
                  <a:lnTo>
                    <a:pt x="43" y="302"/>
                  </a:lnTo>
                  <a:lnTo>
                    <a:pt x="19" y="204"/>
                  </a:lnTo>
                  <a:lnTo>
                    <a:pt x="5" y="103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5" y="356"/>
                  </a:lnTo>
                  <a:lnTo>
                    <a:pt x="19" y="456"/>
                  </a:lnTo>
                  <a:lnTo>
                    <a:pt x="43" y="555"/>
                  </a:lnTo>
                  <a:lnTo>
                    <a:pt x="77" y="649"/>
                  </a:lnTo>
                  <a:lnTo>
                    <a:pt x="118" y="742"/>
                  </a:lnTo>
                  <a:lnTo>
                    <a:pt x="168" y="830"/>
                  </a:lnTo>
                  <a:lnTo>
                    <a:pt x="226" y="915"/>
                  </a:lnTo>
                  <a:lnTo>
                    <a:pt x="291" y="995"/>
                  </a:lnTo>
                  <a:lnTo>
                    <a:pt x="291" y="743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1"/>
            <p:cNvSpPr/>
            <p:nvPr/>
          </p:nvSpPr>
          <p:spPr>
            <a:xfrm>
              <a:off x="3217320" y="4216680"/>
              <a:ext cx="198000" cy="6768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76800"/>
                <a:gd name="textAreaBottom" fmla="*/ 677160 h 676800"/>
              </a:gdLst>
              <a:ahLst/>
              <a:rect l="textAreaLeft" t="textAreaTop" r="textAreaRight" b="textAreaBottom"/>
              <a:pathLst>
                <a:path w="291" h="995">
                  <a:moveTo>
                    <a:pt x="291" y="743"/>
                  </a:moveTo>
                  <a:lnTo>
                    <a:pt x="226" y="663"/>
                  </a:lnTo>
                  <a:lnTo>
                    <a:pt x="168" y="579"/>
                  </a:lnTo>
                  <a:lnTo>
                    <a:pt x="118" y="490"/>
                  </a:lnTo>
                  <a:lnTo>
                    <a:pt x="77" y="398"/>
                  </a:lnTo>
                  <a:lnTo>
                    <a:pt x="43" y="302"/>
                  </a:lnTo>
                  <a:lnTo>
                    <a:pt x="19" y="204"/>
                  </a:lnTo>
                  <a:lnTo>
                    <a:pt x="5" y="103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5" y="356"/>
                  </a:lnTo>
                  <a:lnTo>
                    <a:pt x="19" y="456"/>
                  </a:lnTo>
                  <a:lnTo>
                    <a:pt x="43" y="555"/>
                  </a:lnTo>
                  <a:lnTo>
                    <a:pt x="77" y="649"/>
                  </a:lnTo>
                  <a:lnTo>
                    <a:pt x="118" y="742"/>
                  </a:lnTo>
                  <a:lnTo>
                    <a:pt x="168" y="830"/>
                  </a:lnTo>
                  <a:lnTo>
                    <a:pt x="226" y="915"/>
                  </a:lnTo>
                  <a:lnTo>
                    <a:pt x="291" y="995"/>
                  </a:lnTo>
                  <a:lnTo>
                    <a:pt x="291" y="7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2"/>
            <p:cNvSpPr/>
            <p:nvPr/>
          </p:nvSpPr>
          <p:spPr>
            <a:xfrm>
              <a:off x="3415680" y="4216680"/>
              <a:ext cx="1852560" cy="1027440"/>
            </a:xfrm>
            <a:custGeom>
              <a:avLst/>
              <a:gdLst>
                <a:gd name="textAreaLeft" fmla="*/ 0 w 1852560"/>
                <a:gd name="textAreaRight" fmla="*/ 1852920 w 185256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725" h="1511">
                  <a:moveTo>
                    <a:pt x="0" y="744"/>
                  </a:moveTo>
                  <a:lnTo>
                    <a:pt x="53" y="801"/>
                  </a:lnTo>
                  <a:lnTo>
                    <a:pt x="111" y="855"/>
                  </a:lnTo>
                  <a:lnTo>
                    <a:pt x="171" y="907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3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2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6"/>
                  </a:lnTo>
                  <a:lnTo>
                    <a:pt x="1217" y="1260"/>
                  </a:lnTo>
                  <a:lnTo>
                    <a:pt x="1294" y="1258"/>
                  </a:lnTo>
                  <a:lnTo>
                    <a:pt x="1370" y="1253"/>
                  </a:lnTo>
                  <a:lnTo>
                    <a:pt x="1446" y="1244"/>
                  </a:lnTo>
                  <a:lnTo>
                    <a:pt x="1521" y="1233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2"/>
                  </a:lnTo>
                  <a:lnTo>
                    <a:pt x="1804" y="1161"/>
                  </a:lnTo>
                  <a:lnTo>
                    <a:pt x="1870" y="1135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1"/>
                  </a:lnTo>
                  <a:lnTo>
                    <a:pt x="2230" y="932"/>
                  </a:lnTo>
                  <a:lnTo>
                    <a:pt x="2283" y="890"/>
                  </a:lnTo>
                  <a:lnTo>
                    <a:pt x="2332" y="846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2725" y="252"/>
                  </a:lnTo>
                  <a:lnTo>
                    <a:pt x="2722" y="317"/>
                  </a:lnTo>
                  <a:lnTo>
                    <a:pt x="2716" y="381"/>
                  </a:lnTo>
                  <a:lnTo>
                    <a:pt x="2707" y="444"/>
                  </a:lnTo>
                  <a:lnTo>
                    <a:pt x="2693" y="506"/>
                  </a:lnTo>
                  <a:lnTo>
                    <a:pt x="2676" y="567"/>
                  </a:lnTo>
                  <a:lnTo>
                    <a:pt x="2656" y="626"/>
                  </a:lnTo>
                  <a:lnTo>
                    <a:pt x="2633" y="685"/>
                  </a:lnTo>
                  <a:lnTo>
                    <a:pt x="2605" y="742"/>
                  </a:lnTo>
                  <a:lnTo>
                    <a:pt x="2575" y="798"/>
                  </a:lnTo>
                  <a:lnTo>
                    <a:pt x="2542" y="852"/>
                  </a:lnTo>
                  <a:lnTo>
                    <a:pt x="2506" y="904"/>
                  </a:lnTo>
                  <a:lnTo>
                    <a:pt x="2467" y="955"/>
                  </a:lnTo>
                  <a:lnTo>
                    <a:pt x="2425" y="1005"/>
                  </a:lnTo>
                  <a:lnTo>
                    <a:pt x="2380" y="1053"/>
                  </a:lnTo>
                  <a:lnTo>
                    <a:pt x="2332" y="1099"/>
                  </a:lnTo>
                  <a:lnTo>
                    <a:pt x="2283" y="1142"/>
                  </a:lnTo>
                  <a:lnTo>
                    <a:pt x="2230" y="1184"/>
                  </a:lnTo>
                  <a:lnTo>
                    <a:pt x="2176" y="1224"/>
                  </a:lnTo>
                  <a:lnTo>
                    <a:pt x="2118" y="1261"/>
                  </a:lnTo>
                  <a:lnTo>
                    <a:pt x="2059" y="1297"/>
                  </a:lnTo>
                  <a:lnTo>
                    <a:pt x="1999" y="1329"/>
                  </a:lnTo>
                  <a:lnTo>
                    <a:pt x="1935" y="1360"/>
                  </a:lnTo>
                  <a:lnTo>
                    <a:pt x="1870" y="1388"/>
                  </a:lnTo>
                  <a:lnTo>
                    <a:pt x="1804" y="1412"/>
                  </a:lnTo>
                  <a:lnTo>
                    <a:pt x="1735" y="1435"/>
                  </a:lnTo>
                  <a:lnTo>
                    <a:pt x="1665" y="1454"/>
                  </a:lnTo>
                  <a:lnTo>
                    <a:pt x="1593" y="1471"/>
                  </a:lnTo>
                  <a:lnTo>
                    <a:pt x="1521" y="1486"/>
                  </a:lnTo>
                  <a:lnTo>
                    <a:pt x="1446" y="1497"/>
                  </a:lnTo>
                  <a:lnTo>
                    <a:pt x="1370" y="1504"/>
                  </a:lnTo>
                  <a:lnTo>
                    <a:pt x="1294" y="1510"/>
                  </a:lnTo>
                  <a:lnTo>
                    <a:pt x="1217" y="1511"/>
                  </a:lnTo>
                  <a:lnTo>
                    <a:pt x="1123" y="1509"/>
                  </a:lnTo>
                  <a:lnTo>
                    <a:pt x="1032" y="1502"/>
                  </a:lnTo>
                  <a:lnTo>
                    <a:pt x="942" y="1491"/>
                  </a:lnTo>
                  <a:lnTo>
                    <a:pt x="854" y="1475"/>
                  </a:lnTo>
                  <a:lnTo>
                    <a:pt x="768" y="1454"/>
                  </a:lnTo>
                  <a:lnTo>
                    <a:pt x="684" y="1430"/>
                  </a:lnTo>
                  <a:lnTo>
                    <a:pt x="603" y="1402"/>
                  </a:lnTo>
                  <a:lnTo>
                    <a:pt x="524" y="1371"/>
                  </a:lnTo>
                  <a:lnTo>
                    <a:pt x="447" y="1335"/>
                  </a:lnTo>
                  <a:lnTo>
                    <a:pt x="373" y="1297"/>
                  </a:lnTo>
                  <a:lnTo>
                    <a:pt x="304" y="1254"/>
                  </a:lnTo>
                  <a:lnTo>
                    <a:pt x="235" y="1208"/>
                  </a:lnTo>
                  <a:lnTo>
                    <a:pt x="171" y="1159"/>
                  </a:lnTo>
                  <a:lnTo>
                    <a:pt x="111" y="1107"/>
                  </a:lnTo>
                  <a:lnTo>
                    <a:pt x="53" y="1053"/>
                  </a:lnTo>
                  <a:lnTo>
                    <a:pt x="0" y="995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3"/>
            <p:cNvSpPr/>
            <p:nvPr/>
          </p:nvSpPr>
          <p:spPr>
            <a:xfrm>
              <a:off x="3415680" y="4216680"/>
              <a:ext cx="1852560" cy="1027440"/>
            </a:xfrm>
            <a:custGeom>
              <a:avLst/>
              <a:gdLst>
                <a:gd name="textAreaLeft" fmla="*/ 0 w 1852560"/>
                <a:gd name="textAreaRight" fmla="*/ 1852920 w 185256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725" h="1511">
                  <a:moveTo>
                    <a:pt x="0" y="744"/>
                  </a:moveTo>
                  <a:lnTo>
                    <a:pt x="53" y="801"/>
                  </a:lnTo>
                  <a:lnTo>
                    <a:pt x="111" y="855"/>
                  </a:lnTo>
                  <a:lnTo>
                    <a:pt x="171" y="907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3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2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6"/>
                  </a:lnTo>
                  <a:lnTo>
                    <a:pt x="1217" y="1260"/>
                  </a:lnTo>
                  <a:lnTo>
                    <a:pt x="1294" y="1258"/>
                  </a:lnTo>
                  <a:lnTo>
                    <a:pt x="1370" y="1253"/>
                  </a:lnTo>
                  <a:lnTo>
                    <a:pt x="1446" y="1244"/>
                  </a:lnTo>
                  <a:lnTo>
                    <a:pt x="1521" y="1233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2"/>
                  </a:lnTo>
                  <a:lnTo>
                    <a:pt x="1804" y="1161"/>
                  </a:lnTo>
                  <a:lnTo>
                    <a:pt x="1870" y="1135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1"/>
                  </a:lnTo>
                  <a:lnTo>
                    <a:pt x="2230" y="932"/>
                  </a:lnTo>
                  <a:lnTo>
                    <a:pt x="2283" y="890"/>
                  </a:lnTo>
                  <a:lnTo>
                    <a:pt x="2332" y="846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2725" y="252"/>
                  </a:lnTo>
                  <a:lnTo>
                    <a:pt x="2722" y="317"/>
                  </a:lnTo>
                  <a:lnTo>
                    <a:pt x="2716" y="381"/>
                  </a:lnTo>
                  <a:lnTo>
                    <a:pt x="2707" y="444"/>
                  </a:lnTo>
                  <a:lnTo>
                    <a:pt x="2693" y="506"/>
                  </a:lnTo>
                  <a:lnTo>
                    <a:pt x="2676" y="567"/>
                  </a:lnTo>
                  <a:lnTo>
                    <a:pt x="2656" y="626"/>
                  </a:lnTo>
                  <a:lnTo>
                    <a:pt x="2633" y="685"/>
                  </a:lnTo>
                  <a:lnTo>
                    <a:pt x="2605" y="742"/>
                  </a:lnTo>
                  <a:lnTo>
                    <a:pt x="2575" y="798"/>
                  </a:lnTo>
                  <a:lnTo>
                    <a:pt x="2542" y="852"/>
                  </a:lnTo>
                  <a:lnTo>
                    <a:pt x="2506" y="904"/>
                  </a:lnTo>
                  <a:lnTo>
                    <a:pt x="2467" y="955"/>
                  </a:lnTo>
                  <a:lnTo>
                    <a:pt x="2425" y="1005"/>
                  </a:lnTo>
                  <a:lnTo>
                    <a:pt x="2380" y="1053"/>
                  </a:lnTo>
                  <a:lnTo>
                    <a:pt x="2332" y="1099"/>
                  </a:lnTo>
                  <a:lnTo>
                    <a:pt x="2283" y="1142"/>
                  </a:lnTo>
                  <a:lnTo>
                    <a:pt x="2230" y="1184"/>
                  </a:lnTo>
                  <a:lnTo>
                    <a:pt x="2176" y="1224"/>
                  </a:lnTo>
                  <a:lnTo>
                    <a:pt x="2118" y="1261"/>
                  </a:lnTo>
                  <a:lnTo>
                    <a:pt x="2059" y="1297"/>
                  </a:lnTo>
                  <a:lnTo>
                    <a:pt x="1999" y="1329"/>
                  </a:lnTo>
                  <a:lnTo>
                    <a:pt x="1935" y="1360"/>
                  </a:lnTo>
                  <a:lnTo>
                    <a:pt x="1870" y="1388"/>
                  </a:lnTo>
                  <a:lnTo>
                    <a:pt x="1804" y="1412"/>
                  </a:lnTo>
                  <a:lnTo>
                    <a:pt x="1735" y="1435"/>
                  </a:lnTo>
                  <a:lnTo>
                    <a:pt x="1665" y="1454"/>
                  </a:lnTo>
                  <a:lnTo>
                    <a:pt x="1593" y="1471"/>
                  </a:lnTo>
                  <a:lnTo>
                    <a:pt x="1521" y="1486"/>
                  </a:lnTo>
                  <a:lnTo>
                    <a:pt x="1446" y="1497"/>
                  </a:lnTo>
                  <a:lnTo>
                    <a:pt x="1370" y="1504"/>
                  </a:lnTo>
                  <a:lnTo>
                    <a:pt x="1294" y="1510"/>
                  </a:lnTo>
                  <a:lnTo>
                    <a:pt x="1217" y="1511"/>
                  </a:lnTo>
                  <a:lnTo>
                    <a:pt x="1123" y="1509"/>
                  </a:lnTo>
                  <a:lnTo>
                    <a:pt x="1032" y="1502"/>
                  </a:lnTo>
                  <a:lnTo>
                    <a:pt x="942" y="1491"/>
                  </a:lnTo>
                  <a:lnTo>
                    <a:pt x="854" y="1475"/>
                  </a:lnTo>
                  <a:lnTo>
                    <a:pt x="768" y="1454"/>
                  </a:lnTo>
                  <a:lnTo>
                    <a:pt x="684" y="1430"/>
                  </a:lnTo>
                  <a:lnTo>
                    <a:pt x="603" y="1402"/>
                  </a:lnTo>
                  <a:lnTo>
                    <a:pt x="524" y="1371"/>
                  </a:lnTo>
                  <a:lnTo>
                    <a:pt x="447" y="1335"/>
                  </a:lnTo>
                  <a:lnTo>
                    <a:pt x="373" y="1297"/>
                  </a:lnTo>
                  <a:lnTo>
                    <a:pt x="304" y="1254"/>
                  </a:lnTo>
                  <a:lnTo>
                    <a:pt x="235" y="1208"/>
                  </a:lnTo>
                  <a:lnTo>
                    <a:pt x="171" y="1159"/>
                  </a:lnTo>
                  <a:lnTo>
                    <a:pt x="111" y="1107"/>
                  </a:lnTo>
                  <a:lnTo>
                    <a:pt x="53" y="1053"/>
                  </a:lnTo>
                  <a:lnTo>
                    <a:pt x="0" y="995"/>
                  </a:lnTo>
                  <a:lnTo>
                    <a:pt x="0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6"/>
            <p:cNvGrpSpPr/>
            <p:nvPr/>
          </p:nvGrpSpPr>
          <p:grpSpPr>
            <a:xfrm>
              <a:off x="3918960" y="3360240"/>
              <a:ext cx="1152000" cy="856080"/>
              <a:chOff x="3918960" y="3360240"/>
              <a:chExt cx="1152000" cy="856080"/>
            </a:xfrm>
          </p:grpSpPr>
          <p:sp>
            <p:nvSpPr>
              <p:cNvPr id="61" name="Freeform 24"/>
              <p:cNvSpPr/>
              <p:nvPr/>
            </p:nvSpPr>
            <p:spPr>
              <a:xfrm>
                <a:off x="3918960" y="3360240"/>
                <a:ext cx="1152000" cy="856080"/>
              </a:xfrm>
              <a:custGeom>
                <a:avLst/>
                <a:gdLst>
                  <a:gd name="textAreaLeft" fmla="*/ 0 w 1152000"/>
                  <a:gd name="textAreaRight" fmla="*/ 1152360 w 1152000"/>
                  <a:gd name="textAreaTop" fmla="*/ 0 h 856080"/>
                  <a:gd name="textAreaBottom" fmla="*/ 856440 h 856080"/>
                </a:gdLst>
                <a:ahLst/>
                <a:rect l="textAreaLeft" t="textAreaTop" r="textAreaRight" b="textAreaBottom"/>
                <a:pathLst>
                  <a:path w="1692" h="1260">
                    <a:moveTo>
                      <a:pt x="1692" y="516"/>
                    </a:moveTo>
                    <a:lnTo>
                      <a:pt x="1639" y="459"/>
                    </a:lnTo>
                    <a:lnTo>
                      <a:pt x="1582" y="404"/>
                    </a:lnTo>
                    <a:lnTo>
                      <a:pt x="1521" y="352"/>
                    </a:lnTo>
                    <a:lnTo>
                      <a:pt x="1456" y="303"/>
                    </a:lnTo>
                    <a:lnTo>
                      <a:pt x="1389" y="257"/>
                    </a:lnTo>
                    <a:lnTo>
                      <a:pt x="1318" y="215"/>
                    </a:lnTo>
                    <a:lnTo>
                      <a:pt x="1244" y="176"/>
                    </a:lnTo>
                    <a:lnTo>
                      <a:pt x="1169" y="141"/>
                    </a:lnTo>
                    <a:lnTo>
                      <a:pt x="1089" y="108"/>
                    </a:lnTo>
                    <a:lnTo>
                      <a:pt x="1007" y="80"/>
                    </a:lnTo>
                    <a:lnTo>
                      <a:pt x="924" y="56"/>
                    </a:lnTo>
                    <a:lnTo>
                      <a:pt x="837" y="36"/>
                    </a:lnTo>
                    <a:lnTo>
                      <a:pt x="750" y="20"/>
                    </a:lnTo>
                    <a:lnTo>
                      <a:pt x="659" y="8"/>
                    </a:lnTo>
                    <a:lnTo>
                      <a:pt x="569" y="2"/>
                    </a:lnTo>
                    <a:lnTo>
                      <a:pt x="476" y="0"/>
                    </a:lnTo>
                    <a:lnTo>
                      <a:pt x="352" y="3"/>
                    </a:lnTo>
                    <a:lnTo>
                      <a:pt x="231" y="17"/>
                    </a:lnTo>
                    <a:lnTo>
                      <a:pt x="113" y="36"/>
                    </a:lnTo>
                    <a:lnTo>
                      <a:pt x="0" y="64"/>
                    </a:lnTo>
                    <a:lnTo>
                      <a:pt x="476" y="1260"/>
                    </a:lnTo>
                    <a:lnTo>
                      <a:pt x="1692" y="516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5"/>
              <p:cNvSpPr/>
              <p:nvPr/>
            </p:nvSpPr>
            <p:spPr>
              <a:xfrm>
                <a:off x="3918960" y="3360240"/>
                <a:ext cx="1152000" cy="856080"/>
              </a:xfrm>
              <a:custGeom>
                <a:avLst/>
                <a:gdLst>
                  <a:gd name="textAreaLeft" fmla="*/ 0 w 1152000"/>
                  <a:gd name="textAreaRight" fmla="*/ 1152360 w 1152000"/>
                  <a:gd name="textAreaTop" fmla="*/ 0 h 856080"/>
                  <a:gd name="textAreaBottom" fmla="*/ 856440 h 856080"/>
                </a:gdLst>
                <a:ahLst/>
                <a:rect l="textAreaLeft" t="textAreaTop" r="textAreaRight" b="textAreaBottom"/>
                <a:pathLst>
                  <a:path w="1692" h="1260">
                    <a:moveTo>
                      <a:pt x="1692" y="516"/>
                    </a:moveTo>
                    <a:lnTo>
                      <a:pt x="1639" y="459"/>
                    </a:lnTo>
                    <a:lnTo>
                      <a:pt x="1582" y="404"/>
                    </a:lnTo>
                    <a:lnTo>
                      <a:pt x="1521" y="352"/>
                    </a:lnTo>
                    <a:lnTo>
                      <a:pt x="1456" y="303"/>
                    </a:lnTo>
                    <a:lnTo>
                      <a:pt x="1389" y="257"/>
                    </a:lnTo>
                    <a:lnTo>
                      <a:pt x="1318" y="215"/>
                    </a:lnTo>
                    <a:lnTo>
                      <a:pt x="1244" y="176"/>
                    </a:lnTo>
                    <a:lnTo>
                      <a:pt x="1169" y="141"/>
                    </a:lnTo>
                    <a:lnTo>
                      <a:pt x="1089" y="108"/>
                    </a:lnTo>
                    <a:lnTo>
                      <a:pt x="1007" y="80"/>
                    </a:lnTo>
                    <a:lnTo>
                      <a:pt x="924" y="56"/>
                    </a:lnTo>
                    <a:lnTo>
                      <a:pt x="837" y="36"/>
                    </a:lnTo>
                    <a:lnTo>
                      <a:pt x="750" y="20"/>
                    </a:lnTo>
                    <a:lnTo>
                      <a:pt x="659" y="8"/>
                    </a:lnTo>
                    <a:lnTo>
                      <a:pt x="569" y="2"/>
                    </a:lnTo>
                    <a:lnTo>
                      <a:pt x="476" y="0"/>
                    </a:lnTo>
                    <a:lnTo>
                      <a:pt x="352" y="3"/>
                    </a:lnTo>
                    <a:lnTo>
                      <a:pt x="231" y="17"/>
                    </a:lnTo>
                    <a:lnTo>
                      <a:pt x="113" y="36"/>
                    </a:lnTo>
                    <a:lnTo>
                      <a:pt x="0" y="64"/>
                    </a:lnTo>
                    <a:lnTo>
                      <a:pt x="476" y="1260"/>
                    </a:lnTo>
                    <a:lnTo>
                      <a:pt x="1692" y="51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7"/>
            <p:cNvSpPr/>
            <p:nvPr/>
          </p:nvSpPr>
          <p:spPr>
            <a:xfrm>
              <a:off x="3918960" y="3360240"/>
              <a:ext cx="1152000" cy="8560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856080"/>
                <a:gd name="textAreaBottom" fmla="*/ 856440 h 856080"/>
              </a:gdLst>
              <a:ahLst/>
              <a:rect l="textAreaLeft" t="textAreaTop" r="textAreaRight" b="textAreaBottom"/>
              <a:pathLst>
                <a:path w="1692" h="1260">
                  <a:moveTo>
                    <a:pt x="1692" y="516"/>
                  </a:moveTo>
                  <a:lnTo>
                    <a:pt x="1639" y="459"/>
                  </a:lnTo>
                  <a:lnTo>
                    <a:pt x="1582" y="404"/>
                  </a:lnTo>
                  <a:lnTo>
                    <a:pt x="1521" y="352"/>
                  </a:lnTo>
                  <a:lnTo>
                    <a:pt x="1456" y="303"/>
                  </a:lnTo>
                  <a:lnTo>
                    <a:pt x="1389" y="257"/>
                  </a:lnTo>
                  <a:lnTo>
                    <a:pt x="1318" y="215"/>
                  </a:lnTo>
                  <a:lnTo>
                    <a:pt x="1244" y="176"/>
                  </a:lnTo>
                  <a:lnTo>
                    <a:pt x="1169" y="141"/>
                  </a:lnTo>
                  <a:lnTo>
                    <a:pt x="1089" y="108"/>
                  </a:lnTo>
                  <a:lnTo>
                    <a:pt x="1007" y="80"/>
                  </a:lnTo>
                  <a:lnTo>
                    <a:pt x="924" y="56"/>
                  </a:lnTo>
                  <a:lnTo>
                    <a:pt x="837" y="36"/>
                  </a:lnTo>
                  <a:lnTo>
                    <a:pt x="750" y="20"/>
                  </a:lnTo>
                  <a:lnTo>
                    <a:pt x="659" y="8"/>
                  </a:lnTo>
                  <a:lnTo>
                    <a:pt x="569" y="2"/>
                  </a:lnTo>
                  <a:lnTo>
                    <a:pt x="476" y="0"/>
                  </a:lnTo>
                  <a:lnTo>
                    <a:pt x="352" y="3"/>
                  </a:lnTo>
                  <a:lnTo>
                    <a:pt x="231" y="17"/>
                  </a:lnTo>
                  <a:lnTo>
                    <a:pt x="113" y="36"/>
                  </a:lnTo>
                  <a:lnTo>
                    <a:pt x="0" y="64"/>
                  </a:lnTo>
                  <a:lnTo>
                    <a:pt x="476" y="1260"/>
                  </a:lnTo>
                  <a:lnTo>
                    <a:pt x="1692" y="5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30"/>
            <p:cNvGrpSpPr/>
            <p:nvPr/>
          </p:nvGrpSpPr>
          <p:grpSpPr>
            <a:xfrm>
              <a:off x="4536720" y="3632040"/>
              <a:ext cx="1024200" cy="505440"/>
              <a:chOff x="4536720" y="3632040"/>
              <a:chExt cx="1024200" cy="505440"/>
            </a:xfrm>
          </p:grpSpPr>
          <p:sp>
            <p:nvSpPr>
              <p:cNvPr id="65" name="Freeform 28"/>
              <p:cNvSpPr/>
              <p:nvPr/>
            </p:nvSpPr>
            <p:spPr>
              <a:xfrm>
                <a:off x="4536720" y="3632040"/>
                <a:ext cx="1024200" cy="505440"/>
              </a:xfrm>
              <a:custGeom>
                <a:avLst/>
                <a:gdLst>
                  <a:gd name="textAreaLeft" fmla="*/ 0 w 1024200"/>
                  <a:gd name="textAreaRight" fmla="*/ 1024560 w 1024200"/>
                  <a:gd name="textAreaTop" fmla="*/ 0 h 505440"/>
                  <a:gd name="textAreaBottom" fmla="*/ 505800 h 505440"/>
                </a:gdLst>
                <a:ahLst/>
                <a:rect l="textAreaLeft" t="textAreaTop" r="textAreaRight" b="textAreaBottom"/>
                <a:pathLst>
                  <a:path w="1507" h="744">
                    <a:moveTo>
                      <a:pt x="1507" y="744"/>
                    </a:moveTo>
                    <a:lnTo>
                      <a:pt x="1503" y="641"/>
                    </a:lnTo>
                    <a:lnTo>
                      <a:pt x="1488" y="539"/>
                    </a:lnTo>
                    <a:lnTo>
                      <a:pt x="1464" y="441"/>
                    </a:lnTo>
                    <a:lnTo>
                      <a:pt x="1430" y="346"/>
                    </a:lnTo>
                    <a:lnTo>
                      <a:pt x="1388" y="254"/>
                    </a:lnTo>
                    <a:lnTo>
                      <a:pt x="1339" y="165"/>
                    </a:lnTo>
                    <a:lnTo>
                      <a:pt x="1281" y="80"/>
                    </a:lnTo>
                    <a:lnTo>
                      <a:pt x="1217" y="0"/>
                    </a:lnTo>
                    <a:lnTo>
                      <a:pt x="0" y="744"/>
                    </a:lnTo>
                    <a:lnTo>
                      <a:pt x="1507" y="7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9"/>
              <p:cNvSpPr/>
              <p:nvPr/>
            </p:nvSpPr>
            <p:spPr>
              <a:xfrm>
                <a:off x="4536720" y="3632040"/>
                <a:ext cx="1024200" cy="505440"/>
              </a:xfrm>
              <a:custGeom>
                <a:avLst/>
                <a:gdLst>
                  <a:gd name="textAreaLeft" fmla="*/ 0 w 1024200"/>
                  <a:gd name="textAreaRight" fmla="*/ 1024560 w 1024200"/>
                  <a:gd name="textAreaTop" fmla="*/ 0 h 505440"/>
                  <a:gd name="textAreaBottom" fmla="*/ 505800 h 505440"/>
                </a:gdLst>
                <a:ahLst/>
                <a:rect l="textAreaLeft" t="textAreaTop" r="textAreaRight" b="textAreaBottom"/>
                <a:pathLst>
                  <a:path w="1507" h="744">
                    <a:moveTo>
                      <a:pt x="1507" y="744"/>
                    </a:moveTo>
                    <a:lnTo>
                      <a:pt x="1503" y="641"/>
                    </a:lnTo>
                    <a:lnTo>
                      <a:pt x="1488" y="539"/>
                    </a:lnTo>
                    <a:lnTo>
                      <a:pt x="1464" y="441"/>
                    </a:lnTo>
                    <a:lnTo>
                      <a:pt x="1430" y="346"/>
                    </a:lnTo>
                    <a:lnTo>
                      <a:pt x="1388" y="254"/>
                    </a:lnTo>
                    <a:lnTo>
                      <a:pt x="1339" y="165"/>
                    </a:lnTo>
                    <a:lnTo>
                      <a:pt x="1281" y="80"/>
                    </a:lnTo>
                    <a:lnTo>
                      <a:pt x="1217" y="0"/>
                    </a:lnTo>
                    <a:lnTo>
                      <a:pt x="0" y="744"/>
                    </a:lnTo>
                    <a:lnTo>
                      <a:pt x="1507" y="7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Freeform 31"/>
            <p:cNvSpPr/>
            <p:nvPr/>
          </p:nvSpPr>
          <p:spPr>
            <a:xfrm>
              <a:off x="4536720" y="3632040"/>
              <a:ext cx="1024200" cy="5054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505440"/>
                <a:gd name="textAreaBottom" fmla="*/ 505800 h 505440"/>
              </a:gdLst>
              <a:ahLst/>
              <a:rect l="textAreaLeft" t="textAreaTop" r="textAreaRight" b="textAreaBottom"/>
              <a:pathLst>
                <a:path w="1507" h="744">
                  <a:moveTo>
                    <a:pt x="1507" y="744"/>
                  </a:moveTo>
                  <a:lnTo>
                    <a:pt x="1503" y="641"/>
                  </a:lnTo>
                  <a:lnTo>
                    <a:pt x="1488" y="539"/>
                  </a:lnTo>
                  <a:lnTo>
                    <a:pt x="1464" y="441"/>
                  </a:lnTo>
                  <a:lnTo>
                    <a:pt x="1430" y="346"/>
                  </a:lnTo>
                  <a:lnTo>
                    <a:pt x="1388" y="254"/>
                  </a:lnTo>
                  <a:lnTo>
                    <a:pt x="1339" y="165"/>
                  </a:lnTo>
                  <a:lnTo>
                    <a:pt x="1281" y="80"/>
                  </a:lnTo>
                  <a:lnTo>
                    <a:pt x="1217" y="0"/>
                  </a:lnTo>
                  <a:lnTo>
                    <a:pt x="0" y="744"/>
                  </a:lnTo>
                  <a:lnTo>
                    <a:pt x="1507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34"/>
            <p:cNvGrpSpPr/>
            <p:nvPr/>
          </p:nvGrpSpPr>
          <p:grpSpPr>
            <a:xfrm>
              <a:off x="3217320" y="3404880"/>
              <a:ext cx="1026720" cy="1318320"/>
              <a:chOff x="3217320" y="3404880"/>
              <a:chExt cx="1026720" cy="1318320"/>
            </a:xfrm>
          </p:grpSpPr>
          <p:sp>
            <p:nvSpPr>
              <p:cNvPr id="69" name="Freeform 32"/>
              <p:cNvSpPr/>
              <p:nvPr/>
            </p:nvSpPr>
            <p:spPr>
              <a:xfrm>
                <a:off x="3217320" y="3404880"/>
                <a:ext cx="1026720" cy="1318320"/>
              </a:xfrm>
              <a:custGeom>
                <a:avLst/>
                <a:gdLst>
                  <a:gd name="textAreaLeft" fmla="*/ 0 w 1026720"/>
                  <a:gd name="textAreaRight" fmla="*/ 1027080 w 1026720"/>
                  <a:gd name="textAreaTop" fmla="*/ 0 h 1318320"/>
                  <a:gd name="textAreaBottom" fmla="*/ 1318680 h 1318320"/>
                </a:gdLst>
                <a:ahLst/>
                <a:rect l="textAreaLeft" t="textAreaTop" r="textAreaRight" b="textAreaBottom"/>
                <a:pathLst>
                  <a:path w="1508" h="1940">
                    <a:moveTo>
                      <a:pt x="1032" y="0"/>
                    </a:moveTo>
                    <a:lnTo>
                      <a:pt x="921" y="35"/>
                    </a:lnTo>
                    <a:lnTo>
                      <a:pt x="815" y="77"/>
                    </a:lnTo>
                    <a:lnTo>
                      <a:pt x="714" y="124"/>
                    </a:lnTo>
                    <a:lnTo>
                      <a:pt x="617" y="179"/>
                    </a:lnTo>
                    <a:lnTo>
                      <a:pt x="526" y="239"/>
                    </a:lnTo>
                    <a:lnTo>
                      <a:pt x="442" y="305"/>
                    </a:lnTo>
                    <a:lnTo>
                      <a:pt x="362" y="375"/>
                    </a:lnTo>
                    <a:lnTo>
                      <a:pt x="291" y="452"/>
                    </a:lnTo>
                    <a:lnTo>
                      <a:pt x="225" y="532"/>
                    </a:lnTo>
                    <a:lnTo>
                      <a:pt x="168" y="617"/>
                    </a:lnTo>
                    <a:lnTo>
                      <a:pt x="118" y="706"/>
                    </a:lnTo>
                    <a:lnTo>
                      <a:pt x="77" y="798"/>
                    </a:lnTo>
                    <a:lnTo>
                      <a:pt x="43" y="892"/>
                    </a:lnTo>
                    <a:lnTo>
                      <a:pt x="19" y="991"/>
                    </a:lnTo>
                    <a:lnTo>
                      <a:pt x="5" y="1093"/>
                    </a:lnTo>
                    <a:lnTo>
                      <a:pt x="0" y="1196"/>
                    </a:lnTo>
                    <a:lnTo>
                      <a:pt x="5" y="1299"/>
                    </a:lnTo>
                    <a:lnTo>
                      <a:pt x="19" y="1400"/>
                    </a:lnTo>
                    <a:lnTo>
                      <a:pt x="43" y="1499"/>
                    </a:lnTo>
                    <a:lnTo>
                      <a:pt x="77" y="1594"/>
                    </a:lnTo>
                    <a:lnTo>
                      <a:pt x="118" y="1686"/>
                    </a:lnTo>
                    <a:lnTo>
                      <a:pt x="168" y="1775"/>
                    </a:lnTo>
                    <a:lnTo>
                      <a:pt x="225" y="1860"/>
                    </a:lnTo>
                    <a:lnTo>
                      <a:pt x="291" y="1940"/>
                    </a:lnTo>
                    <a:lnTo>
                      <a:pt x="1508" y="1196"/>
                    </a:lnTo>
                    <a:lnTo>
                      <a:pt x="1032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3"/>
              <p:cNvSpPr/>
              <p:nvPr/>
            </p:nvSpPr>
            <p:spPr>
              <a:xfrm>
                <a:off x="3217320" y="3404880"/>
                <a:ext cx="1026720" cy="1318320"/>
              </a:xfrm>
              <a:custGeom>
                <a:avLst/>
                <a:gdLst>
                  <a:gd name="textAreaLeft" fmla="*/ 0 w 1026720"/>
                  <a:gd name="textAreaRight" fmla="*/ 1027080 w 1026720"/>
                  <a:gd name="textAreaTop" fmla="*/ 0 h 1318320"/>
                  <a:gd name="textAreaBottom" fmla="*/ 1318680 h 1318320"/>
                </a:gdLst>
                <a:ahLst/>
                <a:rect l="textAreaLeft" t="textAreaTop" r="textAreaRight" b="textAreaBottom"/>
                <a:pathLst>
                  <a:path w="1508" h="1940">
                    <a:moveTo>
                      <a:pt x="1032" y="0"/>
                    </a:moveTo>
                    <a:lnTo>
                      <a:pt x="921" y="35"/>
                    </a:lnTo>
                    <a:lnTo>
                      <a:pt x="815" y="77"/>
                    </a:lnTo>
                    <a:lnTo>
                      <a:pt x="714" y="124"/>
                    </a:lnTo>
                    <a:lnTo>
                      <a:pt x="617" y="179"/>
                    </a:lnTo>
                    <a:lnTo>
                      <a:pt x="526" y="239"/>
                    </a:lnTo>
                    <a:lnTo>
                      <a:pt x="442" y="305"/>
                    </a:lnTo>
                    <a:lnTo>
                      <a:pt x="362" y="375"/>
                    </a:lnTo>
                    <a:lnTo>
                      <a:pt x="291" y="452"/>
                    </a:lnTo>
                    <a:lnTo>
                      <a:pt x="225" y="532"/>
                    </a:lnTo>
                    <a:lnTo>
                      <a:pt x="168" y="617"/>
                    </a:lnTo>
                    <a:lnTo>
                      <a:pt x="118" y="706"/>
                    </a:lnTo>
                    <a:lnTo>
                      <a:pt x="77" y="798"/>
                    </a:lnTo>
                    <a:lnTo>
                      <a:pt x="43" y="892"/>
                    </a:lnTo>
                    <a:lnTo>
                      <a:pt x="19" y="991"/>
                    </a:lnTo>
                    <a:lnTo>
                      <a:pt x="5" y="1093"/>
                    </a:lnTo>
                    <a:lnTo>
                      <a:pt x="0" y="1196"/>
                    </a:lnTo>
                    <a:lnTo>
                      <a:pt x="5" y="1299"/>
                    </a:lnTo>
                    <a:lnTo>
                      <a:pt x="19" y="1400"/>
                    </a:lnTo>
                    <a:lnTo>
                      <a:pt x="43" y="1499"/>
                    </a:lnTo>
                    <a:lnTo>
                      <a:pt x="77" y="1594"/>
                    </a:lnTo>
                    <a:lnTo>
                      <a:pt x="118" y="1686"/>
                    </a:lnTo>
                    <a:lnTo>
                      <a:pt x="168" y="1775"/>
                    </a:lnTo>
                    <a:lnTo>
                      <a:pt x="225" y="1860"/>
                    </a:lnTo>
                    <a:lnTo>
                      <a:pt x="291" y="1940"/>
                    </a:lnTo>
                    <a:lnTo>
                      <a:pt x="1508" y="1196"/>
                    </a:lnTo>
                    <a:lnTo>
                      <a:pt x="1032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Freeform 35"/>
            <p:cNvSpPr/>
            <p:nvPr/>
          </p:nvSpPr>
          <p:spPr>
            <a:xfrm>
              <a:off x="3217320" y="3404880"/>
              <a:ext cx="1026720" cy="1318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318320"/>
                <a:gd name="textAreaBottom" fmla="*/ 1318680 h 1318320"/>
              </a:gdLst>
              <a:ahLst/>
              <a:rect l="textAreaLeft" t="textAreaTop" r="textAreaRight" b="textAreaBottom"/>
              <a:pathLst>
                <a:path w="1508" h="1940">
                  <a:moveTo>
                    <a:pt x="1032" y="0"/>
                  </a:moveTo>
                  <a:lnTo>
                    <a:pt x="921" y="35"/>
                  </a:lnTo>
                  <a:lnTo>
                    <a:pt x="815" y="77"/>
                  </a:lnTo>
                  <a:lnTo>
                    <a:pt x="714" y="124"/>
                  </a:lnTo>
                  <a:lnTo>
                    <a:pt x="617" y="179"/>
                  </a:lnTo>
                  <a:lnTo>
                    <a:pt x="526" y="239"/>
                  </a:lnTo>
                  <a:lnTo>
                    <a:pt x="442" y="305"/>
                  </a:lnTo>
                  <a:lnTo>
                    <a:pt x="362" y="375"/>
                  </a:lnTo>
                  <a:lnTo>
                    <a:pt x="291" y="452"/>
                  </a:lnTo>
                  <a:lnTo>
                    <a:pt x="225" y="532"/>
                  </a:lnTo>
                  <a:lnTo>
                    <a:pt x="168" y="617"/>
                  </a:lnTo>
                  <a:lnTo>
                    <a:pt x="118" y="706"/>
                  </a:lnTo>
                  <a:lnTo>
                    <a:pt x="77" y="798"/>
                  </a:lnTo>
                  <a:lnTo>
                    <a:pt x="43" y="892"/>
                  </a:lnTo>
                  <a:lnTo>
                    <a:pt x="19" y="991"/>
                  </a:lnTo>
                  <a:lnTo>
                    <a:pt x="5" y="1093"/>
                  </a:lnTo>
                  <a:lnTo>
                    <a:pt x="0" y="1196"/>
                  </a:lnTo>
                  <a:lnTo>
                    <a:pt x="5" y="1299"/>
                  </a:lnTo>
                  <a:lnTo>
                    <a:pt x="19" y="1400"/>
                  </a:lnTo>
                  <a:lnTo>
                    <a:pt x="43" y="1499"/>
                  </a:lnTo>
                  <a:lnTo>
                    <a:pt x="77" y="1594"/>
                  </a:lnTo>
                  <a:lnTo>
                    <a:pt x="118" y="1686"/>
                  </a:lnTo>
                  <a:lnTo>
                    <a:pt x="168" y="1775"/>
                  </a:lnTo>
                  <a:lnTo>
                    <a:pt x="225" y="1860"/>
                  </a:lnTo>
                  <a:lnTo>
                    <a:pt x="291" y="1940"/>
                  </a:lnTo>
                  <a:lnTo>
                    <a:pt x="1508" y="1196"/>
                  </a:lnTo>
                  <a:lnTo>
                    <a:pt x="103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38"/>
            <p:cNvGrpSpPr/>
            <p:nvPr/>
          </p:nvGrpSpPr>
          <p:grpSpPr>
            <a:xfrm>
              <a:off x="3415680" y="4216680"/>
              <a:ext cx="1852560" cy="857520"/>
              <a:chOff x="3415680" y="4216680"/>
              <a:chExt cx="1852560" cy="857520"/>
            </a:xfrm>
          </p:grpSpPr>
          <p:sp>
            <p:nvSpPr>
              <p:cNvPr id="73" name="Freeform 36"/>
              <p:cNvSpPr/>
              <p:nvPr/>
            </p:nvSpPr>
            <p:spPr>
              <a:xfrm>
                <a:off x="3415680" y="4216680"/>
                <a:ext cx="1852560" cy="857520"/>
              </a:xfrm>
              <a:custGeom>
                <a:avLst/>
                <a:gdLst>
                  <a:gd name="textAreaLeft" fmla="*/ 0 w 1852560"/>
                  <a:gd name="textAreaRight" fmla="*/ 1852920 w 1852560"/>
                  <a:gd name="textAreaTop" fmla="*/ 0 h 857520"/>
                  <a:gd name="textAreaBottom" fmla="*/ 857880 h 857520"/>
                </a:gdLst>
                <a:ahLst/>
                <a:rect l="textAreaLeft" t="textAreaTop" r="textAreaRight" b="textAreaBottom"/>
                <a:pathLst>
                  <a:path w="2725" h="1260">
                    <a:moveTo>
                      <a:pt x="0" y="744"/>
                    </a:moveTo>
                    <a:lnTo>
                      <a:pt x="53" y="801"/>
                    </a:lnTo>
                    <a:lnTo>
                      <a:pt x="111" y="856"/>
                    </a:lnTo>
                    <a:lnTo>
                      <a:pt x="171" y="908"/>
                    </a:lnTo>
                    <a:lnTo>
                      <a:pt x="235" y="957"/>
                    </a:lnTo>
                    <a:lnTo>
                      <a:pt x="304" y="1002"/>
                    </a:lnTo>
                    <a:lnTo>
                      <a:pt x="373" y="1044"/>
                    </a:lnTo>
                    <a:lnTo>
                      <a:pt x="447" y="1084"/>
                    </a:lnTo>
                    <a:lnTo>
                      <a:pt x="524" y="1119"/>
                    </a:lnTo>
                    <a:lnTo>
                      <a:pt x="603" y="1151"/>
                    </a:lnTo>
                    <a:lnTo>
                      <a:pt x="684" y="1179"/>
                    </a:lnTo>
                    <a:lnTo>
                      <a:pt x="768" y="1203"/>
                    </a:lnTo>
                    <a:lnTo>
                      <a:pt x="854" y="1224"/>
                    </a:lnTo>
                    <a:lnTo>
                      <a:pt x="942" y="1238"/>
                    </a:lnTo>
                    <a:lnTo>
                      <a:pt x="1032" y="1250"/>
                    </a:lnTo>
                    <a:lnTo>
                      <a:pt x="1123" y="1258"/>
                    </a:lnTo>
                    <a:lnTo>
                      <a:pt x="1217" y="1260"/>
                    </a:lnTo>
                    <a:lnTo>
                      <a:pt x="1294" y="1259"/>
                    </a:lnTo>
                    <a:lnTo>
                      <a:pt x="1370" y="1253"/>
                    </a:lnTo>
                    <a:lnTo>
                      <a:pt x="1446" y="1246"/>
                    </a:lnTo>
                    <a:lnTo>
                      <a:pt x="1521" y="1235"/>
                    </a:lnTo>
                    <a:lnTo>
                      <a:pt x="1593" y="1220"/>
                    </a:lnTo>
                    <a:lnTo>
                      <a:pt x="1665" y="1203"/>
                    </a:lnTo>
                    <a:lnTo>
                      <a:pt x="1735" y="1184"/>
                    </a:lnTo>
                    <a:lnTo>
                      <a:pt x="1804" y="1161"/>
                    </a:lnTo>
                    <a:lnTo>
                      <a:pt x="1870" y="1136"/>
                    </a:lnTo>
                    <a:lnTo>
                      <a:pt x="1935" y="1107"/>
                    </a:lnTo>
                    <a:lnTo>
                      <a:pt x="1999" y="1077"/>
                    </a:lnTo>
                    <a:lnTo>
                      <a:pt x="2059" y="1044"/>
                    </a:lnTo>
                    <a:lnTo>
                      <a:pt x="2118" y="1009"/>
                    </a:lnTo>
                    <a:lnTo>
                      <a:pt x="2176" y="972"/>
                    </a:lnTo>
                    <a:lnTo>
                      <a:pt x="2230" y="932"/>
                    </a:lnTo>
                    <a:lnTo>
                      <a:pt x="2283" y="891"/>
                    </a:lnTo>
                    <a:lnTo>
                      <a:pt x="2332" y="847"/>
                    </a:lnTo>
                    <a:lnTo>
                      <a:pt x="2380" y="801"/>
                    </a:lnTo>
                    <a:lnTo>
                      <a:pt x="2425" y="754"/>
                    </a:lnTo>
                    <a:lnTo>
                      <a:pt x="2467" y="704"/>
                    </a:lnTo>
                    <a:lnTo>
                      <a:pt x="2506" y="653"/>
                    </a:lnTo>
                    <a:lnTo>
                      <a:pt x="2542" y="601"/>
                    </a:lnTo>
                    <a:lnTo>
                      <a:pt x="2575" y="546"/>
                    </a:lnTo>
                    <a:lnTo>
                      <a:pt x="2605" y="490"/>
                    </a:lnTo>
                    <a:lnTo>
                      <a:pt x="2633" y="433"/>
                    </a:lnTo>
                    <a:lnTo>
                      <a:pt x="2656" y="375"/>
                    </a:lnTo>
                    <a:lnTo>
                      <a:pt x="2676" y="314"/>
                    </a:lnTo>
                    <a:lnTo>
                      <a:pt x="2693" y="254"/>
                    </a:lnTo>
                    <a:lnTo>
                      <a:pt x="2707" y="192"/>
                    </a:lnTo>
                    <a:lnTo>
                      <a:pt x="2716" y="129"/>
                    </a:lnTo>
                    <a:lnTo>
                      <a:pt x="2722" y="64"/>
                    </a:lnTo>
                    <a:lnTo>
                      <a:pt x="2725" y="0"/>
                    </a:lnTo>
                    <a:lnTo>
                      <a:pt x="1217" y="0"/>
                    </a:lnTo>
                    <a:lnTo>
                      <a:pt x="0" y="74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7"/>
              <p:cNvSpPr/>
              <p:nvPr/>
            </p:nvSpPr>
            <p:spPr>
              <a:xfrm>
                <a:off x="3415680" y="4216680"/>
                <a:ext cx="1852560" cy="857520"/>
              </a:xfrm>
              <a:custGeom>
                <a:avLst/>
                <a:gdLst>
                  <a:gd name="textAreaLeft" fmla="*/ 0 w 1852560"/>
                  <a:gd name="textAreaRight" fmla="*/ 1852920 w 1852560"/>
                  <a:gd name="textAreaTop" fmla="*/ 0 h 857520"/>
                  <a:gd name="textAreaBottom" fmla="*/ 857880 h 857520"/>
                </a:gdLst>
                <a:ahLst/>
                <a:rect l="textAreaLeft" t="textAreaTop" r="textAreaRight" b="textAreaBottom"/>
                <a:pathLst>
                  <a:path w="2725" h="1260">
                    <a:moveTo>
                      <a:pt x="0" y="744"/>
                    </a:moveTo>
                    <a:lnTo>
                      <a:pt x="53" y="801"/>
                    </a:lnTo>
                    <a:lnTo>
                      <a:pt x="111" y="856"/>
                    </a:lnTo>
                    <a:lnTo>
                      <a:pt x="171" y="908"/>
                    </a:lnTo>
                    <a:lnTo>
                      <a:pt x="235" y="957"/>
                    </a:lnTo>
                    <a:lnTo>
                      <a:pt x="304" y="1002"/>
                    </a:lnTo>
                    <a:lnTo>
                      <a:pt x="373" y="1044"/>
                    </a:lnTo>
                    <a:lnTo>
                      <a:pt x="447" y="1084"/>
                    </a:lnTo>
                    <a:lnTo>
                      <a:pt x="524" y="1119"/>
                    </a:lnTo>
                    <a:lnTo>
                      <a:pt x="603" y="1151"/>
                    </a:lnTo>
                    <a:lnTo>
                      <a:pt x="684" y="1179"/>
                    </a:lnTo>
                    <a:lnTo>
                      <a:pt x="768" y="1203"/>
                    </a:lnTo>
                    <a:lnTo>
                      <a:pt x="854" y="1224"/>
                    </a:lnTo>
                    <a:lnTo>
                      <a:pt x="942" y="1238"/>
                    </a:lnTo>
                    <a:lnTo>
                      <a:pt x="1032" y="1250"/>
                    </a:lnTo>
                    <a:lnTo>
                      <a:pt x="1123" y="1258"/>
                    </a:lnTo>
                    <a:lnTo>
                      <a:pt x="1217" y="1260"/>
                    </a:lnTo>
                    <a:lnTo>
                      <a:pt x="1294" y="1259"/>
                    </a:lnTo>
                    <a:lnTo>
                      <a:pt x="1370" y="1253"/>
                    </a:lnTo>
                    <a:lnTo>
                      <a:pt x="1446" y="1246"/>
                    </a:lnTo>
                    <a:lnTo>
                      <a:pt x="1521" y="1235"/>
                    </a:lnTo>
                    <a:lnTo>
                      <a:pt x="1593" y="1220"/>
                    </a:lnTo>
                    <a:lnTo>
                      <a:pt x="1665" y="1203"/>
                    </a:lnTo>
                    <a:lnTo>
                      <a:pt x="1735" y="1184"/>
                    </a:lnTo>
                    <a:lnTo>
                      <a:pt x="1804" y="1161"/>
                    </a:lnTo>
                    <a:lnTo>
                      <a:pt x="1870" y="1136"/>
                    </a:lnTo>
                    <a:lnTo>
                      <a:pt x="1935" y="1107"/>
                    </a:lnTo>
                    <a:lnTo>
                      <a:pt x="1999" y="1077"/>
                    </a:lnTo>
                    <a:lnTo>
                      <a:pt x="2059" y="1044"/>
                    </a:lnTo>
                    <a:lnTo>
                      <a:pt x="2118" y="1009"/>
                    </a:lnTo>
                    <a:lnTo>
                      <a:pt x="2176" y="972"/>
                    </a:lnTo>
                    <a:lnTo>
                      <a:pt x="2230" y="932"/>
                    </a:lnTo>
                    <a:lnTo>
                      <a:pt x="2283" y="891"/>
                    </a:lnTo>
                    <a:lnTo>
                      <a:pt x="2332" y="847"/>
                    </a:lnTo>
                    <a:lnTo>
                      <a:pt x="2380" y="801"/>
                    </a:lnTo>
                    <a:lnTo>
                      <a:pt x="2425" y="754"/>
                    </a:lnTo>
                    <a:lnTo>
                      <a:pt x="2467" y="704"/>
                    </a:lnTo>
                    <a:lnTo>
                      <a:pt x="2506" y="653"/>
                    </a:lnTo>
                    <a:lnTo>
                      <a:pt x="2542" y="601"/>
                    </a:lnTo>
                    <a:lnTo>
                      <a:pt x="2575" y="546"/>
                    </a:lnTo>
                    <a:lnTo>
                      <a:pt x="2605" y="490"/>
                    </a:lnTo>
                    <a:lnTo>
                      <a:pt x="2633" y="433"/>
                    </a:lnTo>
                    <a:lnTo>
                      <a:pt x="2656" y="375"/>
                    </a:lnTo>
                    <a:lnTo>
                      <a:pt x="2676" y="314"/>
                    </a:lnTo>
                    <a:lnTo>
                      <a:pt x="2693" y="254"/>
                    </a:lnTo>
                    <a:lnTo>
                      <a:pt x="2707" y="192"/>
                    </a:lnTo>
                    <a:lnTo>
                      <a:pt x="2716" y="129"/>
                    </a:lnTo>
                    <a:lnTo>
                      <a:pt x="2722" y="64"/>
                    </a:lnTo>
                    <a:lnTo>
                      <a:pt x="2725" y="0"/>
                    </a:lnTo>
                    <a:lnTo>
                      <a:pt x="1217" y="0"/>
                    </a:lnTo>
                    <a:lnTo>
                      <a:pt x="0" y="7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Freeform 39"/>
            <p:cNvSpPr/>
            <p:nvPr/>
          </p:nvSpPr>
          <p:spPr>
            <a:xfrm>
              <a:off x="3415680" y="4216680"/>
              <a:ext cx="1852560" cy="857520"/>
            </a:xfrm>
            <a:custGeom>
              <a:avLst/>
              <a:gdLst>
                <a:gd name="textAreaLeft" fmla="*/ 0 w 1852560"/>
                <a:gd name="textAreaRight" fmla="*/ 1852920 w 1852560"/>
                <a:gd name="textAreaTop" fmla="*/ 0 h 857520"/>
                <a:gd name="textAreaBottom" fmla="*/ 857880 h 857520"/>
              </a:gdLst>
              <a:ahLst/>
              <a:rect l="textAreaLeft" t="textAreaTop" r="textAreaRight" b="textAreaBottom"/>
              <a:pathLst>
                <a:path w="2725" h="1260">
                  <a:moveTo>
                    <a:pt x="0" y="744"/>
                  </a:moveTo>
                  <a:lnTo>
                    <a:pt x="53" y="801"/>
                  </a:lnTo>
                  <a:lnTo>
                    <a:pt x="111" y="856"/>
                  </a:lnTo>
                  <a:lnTo>
                    <a:pt x="171" y="908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4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4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8"/>
                  </a:lnTo>
                  <a:lnTo>
                    <a:pt x="1217" y="1260"/>
                  </a:lnTo>
                  <a:lnTo>
                    <a:pt x="1294" y="1259"/>
                  </a:lnTo>
                  <a:lnTo>
                    <a:pt x="1370" y="1253"/>
                  </a:lnTo>
                  <a:lnTo>
                    <a:pt x="1446" y="1246"/>
                  </a:lnTo>
                  <a:lnTo>
                    <a:pt x="1521" y="1235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4"/>
                  </a:lnTo>
                  <a:lnTo>
                    <a:pt x="1804" y="1161"/>
                  </a:lnTo>
                  <a:lnTo>
                    <a:pt x="1870" y="1136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2"/>
                  </a:lnTo>
                  <a:lnTo>
                    <a:pt x="2230" y="932"/>
                  </a:lnTo>
                  <a:lnTo>
                    <a:pt x="2283" y="891"/>
                  </a:lnTo>
                  <a:lnTo>
                    <a:pt x="2332" y="847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1217" y="0"/>
                  </a:lnTo>
                  <a:lnTo>
                    <a:pt x="0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4255200" y="4394880"/>
              <a:ext cx="29880" cy="9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4" h="15">
                  <a:moveTo>
                    <a:pt x="3" y="10"/>
                  </a:moveTo>
                  <a:lnTo>
                    <a:pt x="0" y="7"/>
                  </a:lnTo>
                  <a:lnTo>
                    <a:pt x="11" y="0"/>
                  </a:lnTo>
                  <a:lnTo>
                    <a:pt x="44" y="15"/>
                  </a:lnTo>
                  <a:lnTo>
                    <a:pt x="28" y="15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5540400" y="5016960"/>
              <a:ext cx="20520" cy="42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0" h="60">
                  <a:moveTo>
                    <a:pt x="20" y="60"/>
                  </a:moveTo>
                  <a:lnTo>
                    <a:pt x="3" y="53"/>
                  </a:lnTo>
                  <a:lnTo>
                    <a:pt x="0" y="35"/>
                  </a:lnTo>
                  <a:lnTo>
                    <a:pt x="10" y="7"/>
                  </a:lnTo>
                  <a:lnTo>
                    <a:pt x="17" y="0"/>
                  </a:lnTo>
                  <a:lnTo>
                    <a:pt x="28" y="7"/>
                  </a:lnTo>
                  <a:lnTo>
                    <a:pt x="30" y="43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5519880" y="5097600"/>
              <a:ext cx="16200" cy="270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3" h="41">
                  <a:moveTo>
                    <a:pt x="7" y="38"/>
                  </a:moveTo>
                  <a:lnTo>
                    <a:pt x="0" y="28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3" y="12"/>
                  </a:lnTo>
                  <a:lnTo>
                    <a:pt x="19" y="41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5501160" y="4806360"/>
              <a:ext cx="9000" cy="104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4" h="16">
                  <a:moveTo>
                    <a:pt x="2" y="16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14" y="8"/>
                  </a:lnTo>
                  <a:lnTo>
                    <a:pt x="7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5448240" y="4752360"/>
              <a:ext cx="57960" cy="60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6" h="88">
                  <a:moveTo>
                    <a:pt x="38" y="35"/>
                  </a:moveTo>
                  <a:lnTo>
                    <a:pt x="30" y="52"/>
                  </a:lnTo>
                  <a:lnTo>
                    <a:pt x="33" y="78"/>
                  </a:lnTo>
                  <a:lnTo>
                    <a:pt x="21" y="88"/>
                  </a:lnTo>
                  <a:lnTo>
                    <a:pt x="14" y="88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14" y="28"/>
                  </a:lnTo>
                  <a:lnTo>
                    <a:pt x="38" y="35"/>
                  </a:lnTo>
                  <a:lnTo>
                    <a:pt x="44" y="25"/>
                  </a:lnTo>
                  <a:lnTo>
                    <a:pt x="38" y="10"/>
                  </a:lnTo>
                  <a:lnTo>
                    <a:pt x="46" y="0"/>
                  </a:lnTo>
                  <a:lnTo>
                    <a:pt x="56" y="12"/>
                  </a:lnTo>
                  <a:lnTo>
                    <a:pt x="74" y="28"/>
                  </a:lnTo>
                  <a:lnTo>
                    <a:pt x="86" y="33"/>
                  </a:lnTo>
                  <a:lnTo>
                    <a:pt x="48" y="47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5478120" y="5233320"/>
              <a:ext cx="14760" cy="158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1" h="26">
                  <a:moveTo>
                    <a:pt x="4" y="26"/>
                  </a:moveTo>
                  <a:lnTo>
                    <a:pt x="0" y="16"/>
                  </a:lnTo>
                  <a:lnTo>
                    <a:pt x="7" y="0"/>
                  </a:lnTo>
                  <a:lnTo>
                    <a:pt x="21" y="3"/>
                  </a:lnTo>
                  <a:lnTo>
                    <a:pt x="12" y="23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5397480" y="4729320"/>
              <a:ext cx="6480" cy="6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6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4366800" y="41990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5" h="12">
                  <a:moveTo>
                    <a:pt x="0" y="7"/>
                  </a:moveTo>
                  <a:lnTo>
                    <a:pt x="0" y="0"/>
                  </a:lnTo>
                  <a:lnTo>
                    <a:pt x="25" y="7"/>
                  </a:lnTo>
                  <a:lnTo>
                    <a:pt x="2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4316400" y="4203000"/>
              <a:ext cx="11880" cy="3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9" h="5">
                  <a:moveTo>
                    <a:pt x="6" y="5"/>
                  </a:moveTo>
                  <a:lnTo>
                    <a:pt x="0" y="0"/>
                  </a:lnTo>
                  <a:lnTo>
                    <a:pt x="19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5585400" y="5321520"/>
              <a:ext cx="29880" cy="20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5" h="30">
                  <a:moveTo>
                    <a:pt x="3" y="30"/>
                  </a:moveTo>
                  <a:lnTo>
                    <a:pt x="0" y="30"/>
                  </a:lnTo>
                  <a:lnTo>
                    <a:pt x="18" y="8"/>
                  </a:lnTo>
                  <a:lnTo>
                    <a:pt x="45" y="0"/>
                  </a:lnTo>
                  <a:lnTo>
                    <a:pt x="45" y="1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0"/>
            <p:cNvSpPr/>
            <p:nvPr/>
          </p:nvSpPr>
          <p:spPr>
            <a:xfrm>
              <a:off x="5199120" y="5363640"/>
              <a:ext cx="60840" cy="309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90" h="45">
                  <a:moveTo>
                    <a:pt x="55" y="45"/>
                  </a:moveTo>
                  <a:lnTo>
                    <a:pt x="34" y="36"/>
                  </a:lnTo>
                  <a:lnTo>
                    <a:pt x="13" y="38"/>
                  </a:lnTo>
                  <a:lnTo>
                    <a:pt x="0" y="36"/>
                  </a:lnTo>
                  <a:lnTo>
                    <a:pt x="5" y="22"/>
                  </a:lnTo>
                  <a:lnTo>
                    <a:pt x="23" y="15"/>
                  </a:lnTo>
                  <a:lnTo>
                    <a:pt x="51" y="27"/>
                  </a:lnTo>
                  <a:lnTo>
                    <a:pt x="69" y="5"/>
                  </a:lnTo>
                  <a:lnTo>
                    <a:pt x="76" y="0"/>
                  </a:lnTo>
                  <a:lnTo>
                    <a:pt x="90" y="22"/>
                  </a:lnTo>
                  <a:lnTo>
                    <a:pt x="71" y="41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5091480" y="5392080"/>
              <a:ext cx="19080" cy="9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12">
                  <a:moveTo>
                    <a:pt x="0" y="10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2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2"/>
            <p:cNvSpPr/>
            <p:nvPr/>
          </p:nvSpPr>
          <p:spPr>
            <a:xfrm>
              <a:off x="4761360" y="5256720"/>
              <a:ext cx="17280" cy="25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37">
                  <a:moveTo>
                    <a:pt x="7" y="13"/>
                  </a:moveTo>
                  <a:lnTo>
                    <a:pt x="0" y="0"/>
                  </a:lnTo>
                  <a:lnTo>
                    <a:pt x="25" y="13"/>
                  </a:lnTo>
                  <a:lnTo>
                    <a:pt x="21" y="37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3"/>
            <p:cNvSpPr/>
            <p:nvPr/>
          </p:nvSpPr>
          <p:spPr>
            <a:xfrm>
              <a:off x="4673880" y="5249520"/>
              <a:ext cx="46080" cy="35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7" h="51">
                  <a:moveTo>
                    <a:pt x="19" y="3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23"/>
                  </a:lnTo>
                  <a:lnTo>
                    <a:pt x="49" y="28"/>
                  </a:lnTo>
                  <a:lnTo>
                    <a:pt x="67" y="45"/>
                  </a:lnTo>
                  <a:lnTo>
                    <a:pt x="62" y="51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4"/>
            <p:cNvSpPr/>
            <p:nvPr/>
          </p:nvSpPr>
          <p:spPr>
            <a:xfrm>
              <a:off x="4578840" y="52264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7" h="25">
                  <a:moveTo>
                    <a:pt x="9" y="19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27" y="19"/>
                  </a:lnTo>
                  <a:lnTo>
                    <a:pt x="23" y="25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5"/>
            <p:cNvSpPr/>
            <p:nvPr/>
          </p:nvSpPr>
          <p:spPr>
            <a:xfrm>
              <a:off x="3686400" y="3422880"/>
              <a:ext cx="1199520" cy="1444680"/>
            </a:xfrm>
            <a:custGeom>
              <a:avLst/>
              <a:gdLst>
                <a:gd name="textAreaLeft" fmla="*/ 0 w 1199520"/>
                <a:gd name="textAreaRight" fmla="*/ 1199880 w 119952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762" h="2127">
                  <a:moveTo>
                    <a:pt x="131" y="104"/>
                  </a:moveTo>
                  <a:lnTo>
                    <a:pt x="109" y="124"/>
                  </a:lnTo>
                  <a:lnTo>
                    <a:pt x="125" y="142"/>
                  </a:lnTo>
                  <a:lnTo>
                    <a:pt x="136" y="132"/>
                  </a:lnTo>
                  <a:lnTo>
                    <a:pt x="122" y="126"/>
                  </a:lnTo>
                  <a:lnTo>
                    <a:pt x="121" y="132"/>
                  </a:lnTo>
                  <a:lnTo>
                    <a:pt x="122" y="138"/>
                  </a:lnTo>
                  <a:lnTo>
                    <a:pt x="125" y="124"/>
                  </a:lnTo>
                  <a:lnTo>
                    <a:pt x="102" y="153"/>
                  </a:lnTo>
                  <a:lnTo>
                    <a:pt x="100" y="155"/>
                  </a:lnTo>
                  <a:lnTo>
                    <a:pt x="98" y="161"/>
                  </a:lnTo>
                  <a:lnTo>
                    <a:pt x="98" y="209"/>
                  </a:lnTo>
                  <a:lnTo>
                    <a:pt x="113" y="209"/>
                  </a:lnTo>
                  <a:lnTo>
                    <a:pt x="107" y="195"/>
                  </a:lnTo>
                  <a:lnTo>
                    <a:pt x="103" y="199"/>
                  </a:lnTo>
                  <a:lnTo>
                    <a:pt x="100" y="203"/>
                  </a:lnTo>
                  <a:lnTo>
                    <a:pt x="113" y="194"/>
                  </a:lnTo>
                  <a:lnTo>
                    <a:pt x="14" y="198"/>
                  </a:lnTo>
                  <a:lnTo>
                    <a:pt x="8" y="199"/>
                  </a:lnTo>
                  <a:lnTo>
                    <a:pt x="4" y="203"/>
                  </a:lnTo>
                  <a:lnTo>
                    <a:pt x="1" y="206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2"/>
                  </a:lnTo>
                  <a:lnTo>
                    <a:pt x="55" y="279"/>
                  </a:lnTo>
                  <a:lnTo>
                    <a:pt x="56" y="279"/>
                  </a:lnTo>
                  <a:lnTo>
                    <a:pt x="60" y="283"/>
                  </a:lnTo>
                  <a:lnTo>
                    <a:pt x="61" y="283"/>
                  </a:lnTo>
                  <a:lnTo>
                    <a:pt x="115" y="302"/>
                  </a:lnTo>
                  <a:lnTo>
                    <a:pt x="120" y="289"/>
                  </a:lnTo>
                  <a:lnTo>
                    <a:pt x="107" y="295"/>
                  </a:lnTo>
                  <a:lnTo>
                    <a:pt x="110" y="299"/>
                  </a:lnTo>
                  <a:lnTo>
                    <a:pt x="114" y="302"/>
                  </a:lnTo>
                  <a:lnTo>
                    <a:pt x="107" y="291"/>
                  </a:lnTo>
                  <a:lnTo>
                    <a:pt x="122" y="409"/>
                  </a:lnTo>
                  <a:lnTo>
                    <a:pt x="136" y="407"/>
                  </a:lnTo>
                  <a:lnTo>
                    <a:pt x="126" y="397"/>
                  </a:lnTo>
                  <a:lnTo>
                    <a:pt x="122" y="401"/>
                  </a:lnTo>
                  <a:lnTo>
                    <a:pt x="121" y="407"/>
                  </a:lnTo>
                  <a:lnTo>
                    <a:pt x="127" y="396"/>
                  </a:lnTo>
                  <a:lnTo>
                    <a:pt x="49" y="458"/>
                  </a:lnTo>
                  <a:lnTo>
                    <a:pt x="48" y="459"/>
                  </a:lnTo>
                  <a:lnTo>
                    <a:pt x="44" y="462"/>
                  </a:lnTo>
                  <a:lnTo>
                    <a:pt x="43" y="469"/>
                  </a:lnTo>
                  <a:lnTo>
                    <a:pt x="43" y="534"/>
                  </a:lnTo>
                  <a:lnTo>
                    <a:pt x="57" y="534"/>
                  </a:lnTo>
                  <a:lnTo>
                    <a:pt x="48" y="524"/>
                  </a:lnTo>
                  <a:lnTo>
                    <a:pt x="44" y="528"/>
                  </a:lnTo>
                  <a:lnTo>
                    <a:pt x="48" y="524"/>
                  </a:lnTo>
                  <a:lnTo>
                    <a:pt x="13" y="557"/>
                  </a:lnTo>
                  <a:lnTo>
                    <a:pt x="9" y="561"/>
                  </a:lnTo>
                  <a:lnTo>
                    <a:pt x="8" y="567"/>
                  </a:lnTo>
                  <a:lnTo>
                    <a:pt x="9" y="569"/>
                  </a:lnTo>
                  <a:lnTo>
                    <a:pt x="25" y="669"/>
                  </a:lnTo>
                  <a:lnTo>
                    <a:pt x="25" y="672"/>
                  </a:lnTo>
                  <a:lnTo>
                    <a:pt x="107" y="857"/>
                  </a:lnTo>
                  <a:lnTo>
                    <a:pt x="110" y="861"/>
                  </a:lnTo>
                  <a:lnTo>
                    <a:pt x="114" y="864"/>
                  </a:lnTo>
                  <a:lnTo>
                    <a:pt x="115" y="864"/>
                  </a:lnTo>
                  <a:lnTo>
                    <a:pt x="250" y="916"/>
                  </a:lnTo>
                  <a:lnTo>
                    <a:pt x="255" y="903"/>
                  </a:lnTo>
                  <a:lnTo>
                    <a:pt x="244" y="913"/>
                  </a:lnTo>
                  <a:lnTo>
                    <a:pt x="342" y="1031"/>
                  </a:lnTo>
                  <a:lnTo>
                    <a:pt x="390" y="1088"/>
                  </a:lnTo>
                  <a:lnTo>
                    <a:pt x="391" y="1088"/>
                  </a:lnTo>
                  <a:lnTo>
                    <a:pt x="395" y="1091"/>
                  </a:lnTo>
                  <a:lnTo>
                    <a:pt x="401" y="1093"/>
                  </a:lnTo>
                  <a:lnTo>
                    <a:pt x="407" y="1091"/>
                  </a:lnTo>
                  <a:lnTo>
                    <a:pt x="410" y="1088"/>
                  </a:lnTo>
                  <a:lnTo>
                    <a:pt x="413" y="1085"/>
                  </a:lnTo>
                  <a:lnTo>
                    <a:pt x="472" y="986"/>
                  </a:lnTo>
                  <a:lnTo>
                    <a:pt x="460" y="978"/>
                  </a:lnTo>
                  <a:lnTo>
                    <a:pt x="466" y="992"/>
                  </a:lnTo>
                  <a:lnTo>
                    <a:pt x="469" y="988"/>
                  </a:lnTo>
                  <a:lnTo>
                    <a:pt x="466" y="992"/>
                  </a:lnTo>
                  <a:lnTo>
                    <a:pt x="513" y="972"/>
                  </a:lnTo>
                  <a:lnTo>
                    <a:pt x="516" y="969"/>
                  </a:lnTo>
                  <a:lnTo>
                    <a:pt x="520" y="965"/>
                  </a:lnTo>
                  <a:lnTo>
                    <a:pt x="539" y="918"/>
                  </a:lnTo>
                  <a:lnTo>
                    <a:pt x="540" y="912"/>
                  </a:lnTo>
                  <a:lnTo>
                    <a:pt x="539" y="906"/>
                  </a:lnTo>
                  <a:lnTo>
                    <a:pt x="537" y="903"/>
                  </a:lnTo>
                  <a:lnTo>
                    <a:pt x="510" y="870"/>
                  </a:lnTo>
                  <a:lnTo>
                    <a:pt x="509" y="869"/>
                  </a:lnTo>
                  <a:lnTo>
                    <a:pt x="505" y="865"/>
                  </a:lnTo>
                  <a:lnTo>
                    <a:pt x="504" y="865"/>
                  </a:lnTo>
                  <a:lnTo>
                    <a:pt x="449" y="847"/>
                  </a:lnTo>
                  <a:lnTo>
                    <a:pt x="444" y="861"/>
                  </a:lnTo>
                  <a:lnTo>
                    <a:pt x="455" y="851"/>
                  </a:lnTo>
                  <a:lnTo>
                    <a:pt x="363" y="751"/>
                  </a:lnTo>
                  <a:lnTo>
                    <a:pt x="352" y="761"/>
                  </a:lnTo>
                  <a:lnTo>
                    <a:pt x="366" y="755"/>
                  </a:lnTo>
                  <a:lnTo>
                    <a:pt x="367" y="760"/>
                  </a:lnTo>
                  <a:lnTo>
                    <a:pt x="360" y="703"/>
                  </a:lnTo>
                  <a:lnTo>
                    <a:pt x="345" y="704"/>
                  </a:lnTo>
                  <a:lnTo>
                    <a:pt x="355" y="714"/>
                  </a:lnTo>
                  <a:lnTo>
                    <a:pt x="358" y="710"/>
                  </a:lnTo>
                  <a:lnTo>
                    <a:pt x="360" y="704"/>
                  </a:lnTo>
                  <a:lnTo>
                    <a:pt x="352" y="716"/>
                  </a:lnTo>
                  <a:lnTo>
                    <a:pt x="368" y="706"/>
                  </a:lnTo>
                  <a:lnTo>
                    <a:pt x="361" y="694"/>
                  </a:lnTo>
                  <a:lnTo>
                    <a:pt x="358" y="709"/>
                  </a:lnTo>
                  <a:lnTo>
                    <a:pt x="414" y="719"/>
                  </a:lnTo>
                  <a:lnTo>
                    <a:pt x="416" y="704"/>
                  </a:lnTo>
                  <a:lnTo>
                    <a:pt x="410" y="717"/>
                  </a:lnTo>
                  <a:lnTo>
                    <a:pt x="407" y="715"/>
                  </a:lnTo>
                  <a:lnTo>
                    <a:pt x="533" y="834"/>
                  </a:lnTo>
                  <a:lnTo>
                    <a:pt x="537" y="836"/>
                  </a:lnTo>
                  <a:lnTo>
                    <a:pt x="591" y="864"/>
                  </a:lnTo>
                  <a:lnTo>
                    <a:pt x="597" y="851"/>
                  </a:lnTo>
                  <a:lnTo>
                    <a:pt x="587" y="861"/>
                  </a:lnTo>
                  <a:lnTo>
                    <a:pt x="585" y="858"/>
                  </a:lnTo>
                  <a:lnTo>
                    <a:pt x="644" y="966"/>
                  </a:lnTo>
                  <a:lnTo>
                    <a:pt x="656" y="959"/>
                  </a:lnTo>
                  <a:lnTo>
                    <a:pt x="641" y="959"/>
                  </a:lnTo>
                  <a:lnTo>
                    <a:pt x="643" y="965"/>
                  </a:lnTo>
                  <a:lnTo>
                    <a:pt x="643" y="955"/>
                  </a:lnTo>
                  <a:lnTo>
                    <a:pt x="620" y="1027"/>
                  </a:lnTo>
                  <a:lnTo>
                    <a:pt x="618" y="1031"/>
                  </a:lnTo>
                  <a:lnTo>
                    <a:pt x="620" y="1037"/>
                  </a:lnTo>
                  <a:lnTo>
                    <a:pt x="622" y="1040"/>
                  </a:lnTo>
                  <a:lnTo>
                    <a:pt x="693" y="1130"/>
                  </a:lnTo>
                  <a:lnTo>
                    <a:pt x="694" y="1130"/>
                  </a:lnTo>
                  <a:lnTo>
                    <a:pt x="698" y="1134"/>
                  </a:lnTo>
                  <a:lnTo>
                    <a:pt x="702" y="1135"/>
                  </a:lnTo>
                  <a:lnTo>
                    <a:pt x="844" y="1163"/>
                  </a:lnTo>
                  <a:lnTo>
                    <a:pt x="846" y="1148"/>
                  </a:lnTo>
                  <a:lnTo>
                    <a:pt x="836" y="1158"/>
                  </a:lnTo>
                  <a:lnTo>
                    <a:pt x="840" y="1162"/>
                  </a:lnTo>
                  <a:lnTo>
                    <a:pt x="835" y="1157"/>
                  </a:lnTo>
                  <a:lnTo>
                    <a:pt x="889" y="1232"/>
                  </a:lnTo>
                  <a:lnTo>
                    <a:pt x="891" y="1233"/>
                  </a:lnTo>
                  <a:lnTo>
                    <a:pt x="894" y="1237"/>
                  </a:lnTo>
                  <a:lnTo>
                    <a:pt x="997" y="1289"/>
                  </a:lnTo>
                  <a:lnTo>
                    <a:pt x="1003" y="1276"/>
                  </a:lnTo>
                  <a:lnTo>
                    <a:pt x="993" y="1286"/>
                  </a:lnTo>
                  <a:lnTo>
                    <a:pt x="1147" y="1451"/>
                  </a:lnTo>
                  <a:lnTo>
                    <a:pt x="1157" y="1441"/>
                  </a:lnTo>
                  <a:lnTo>
                    <a:pt x="1143" y="1445"/>
                  </a:lnTo>
                  <a:lnTo>
                    <a:pt x="1175" y="1587"/>
                  </a:lnTo>
                  <a:lnTo>
                    <a:pt x="1188" y="1583"/>
                  </a:lnTo>
                  <a:lnTo>
                    <a:pt x="1175" y="1577"/>
                  </a:lnTo>
                  <a:lnTo>
                    <a:pt x="1173" y="1583"/>
                  </a:lnTo>
                  <a:lnTo>
                    <a:pt x="1175" y="1578"/>
                  </a:lnTo>
                  <a:lnTo>
                    <a:pt x="1159" y="1616"/>
                  </a:lnTo>
                  <a:lnTo>
                    <a:pt x="1159" y="1615"/>
                  </a:lnTo>
                  <a:lnTo>
                    <a:pt x="1158" y="1621"/>
                  </a:lnTo>
                  <a:lnTo>
                    <a:pt x="1158" y="1668"/>
                  </a:lnTo>
                  <a:lnTo>
                    <a:pt x="1172" y="1668"/>
                  </a:lnTo>
                  <a:lnTo>
                    <a:pt x="1163" y="1658"/>
                  </a:lnTo>
                  <a:lnTo>
                    <a:pt x="1159" y="1662"/>
                  </a:lnTo>
                  <a:lnTo>
                    <a:pt x="1164" y="1657"/>
                  </a:lnTo>
                  <a:lnTo>
                    <a:pt x="1108" y="1700"/>
                  </a:lnTo>
                  <a:lnTo>
                    <a:pt x="1107" y="1701"/>
                  </a:lnTo>
                  <a:lnTo>
                    <a:pt x="1104" y="1704"/>
                  </a:lnTo>
                  <a:lnTo>
                    <a:pt x="1102" y="1710"/>
                  </a:lnTo>
                  <a:lnTo>
                    <a:pt x="1104" y="1716"/>
                  </a:lnTo>
                  <a:lnTo>
                    <a:pt x="1105" y="1719"/>
                  </a:lnTo>
                  <a:lnTo>
                    <a:pt x="1181" y="1837"/>
                  </a:lnTo>
                  <a:lnTo>
                    <a:pt x="1183" y="1838"/>
                  </a:lnTo>
                  <a:lnTo>
                    <a:pt x="1187" y="1842"/>
                  </a:lnTo>
                  <a:lnTo>
                    <a:pt x="1193" y="1843"/>
                  </a:lnTo>
                  <a:lnTo>
                    <a:pt x="1224" y="1843"/>
                  </a:lnTo>
                  <a:lnTo>
                    <a:pt x="1224" y="1828"/>
                  </a:lnTo>
                  <a:lnTo>
                    <a:pt x="1218" y="1842"/>
                  </a:lnTo>
                  <a:lnTo>
                    <a:pt x="1324" y="1889"/>
                  </a:lnTo>
                  <a:lnTo>
                    <a:pt x="1330" y="1890"/>
                  </a:lnTo>
                  <a:lnTo>
                    <a:pt x="1336" y="1889"/>
                  </a:lnTo>
                  <a:lnTo>
                    <a:pt x="1340" y="1885"/>
                  </a:lnTo>
                  <a:lnTo>
                    <a:pt x="1343" y="1882"/>
                  </a:lnTo>
                  <a:lnTo>
                    <a:pt x="1352" y="1863"/>
                  </a:lnTo>
                  <a:lnTo>
                    <a:pt x="1353" y="1857"/>
                  </a:lnTo>
                  <a:lnTo>
                    <a:pt x="1353" y="1856"/>
                  </a:lnTo>
                  <a:lnTo>
                    <a:pt x="1344" y="1784"/>
                  </a:lnTo>
                  <a:lnTo>
                    <a:pt x="1343" y="1780"/>
                  </a:lnTo>
                  <a:lnTo>
                    <a:pt x="1341" y="1776"/>
                  </a:lnTo>
                  <a:lnTo>
                    <a:pt x="1290" y="1720"/>
                  </a:lnTo>
                  <a:lnTo>
                    <a:pt x="1279" y="1730"/>
                  </a:lnTo>
                  <a:lnTo>
                    <a:pt x="1294" y="1730"/>
                  </a:lnTo>
                  <a:lnTo>
                    <a:pt x="1293" y="1724"/>
                  </a:lnTo>
                  <a:lnTo>
                    <a:pt x="1294" y="1730"/>
                  </a:lnTo>
                  <a:lnTo>
                    <a:pt x="1294" y="1683"/>
                  </a:lnTo>
                  <a:lnTo>
                    <a:pt x="1279" y="1683"/>
                  </a:lnTo>
                  <a:lnTo>
                    <a:pt x="1285" y="1696"/>
                  </a:lnTo>
                  <a:lnTo>
                    <a:pt x="1289" y="1692"/>
                  </a:lnTo>
                  <a:lnTo>
                    <a:pt x="1293" y="1689"/>
                  </a:lnTo>
                  <a:lnTo>
                    <a:pt x="1282" y="1697"/>
                  </a:lnTo>
                  <a:lnTo>
                    <a:pt x="1317" y="1692"/>
                  </a:lnTo>
                  <a:lnTo>
                    <a:pt x="1314" y="1678"/>
                  </a:lnTo>
                  <a:lnTo>
                    <a:pt x="1308" y="1691"/>
                  </a:lnTo>
                  <a:lnTo>
                    <a:pt x="1314" y="1692"/>
                  </a:lnTo>
                  <a:lnTo>
                    <a:pt x="1306" y="1690"/>
                  </a:lnTo>
                  <a:lnTo>
                    <a:pt x="1420" y="1780"/>
                  </a:lnTo>
                  <a:lnTo>
                    <a:pt x="1429" y="1767"/>
                  </a:lnTo>
                  <a:lnTo>
                    <a:pt x="1415" y="1774"/>
                  </a:lnTo>
                  <a:lnTo>
                    <a:pt x="1419" y="1777"/>
                  </a:lnTo>
                  <a:lnTo>
                    <a:pt x="1414" y="1769"/>
                  </a:lnTo>
                  <a:lnTo>
                    <a:pt x="1421" y="1849"/>
                  </a:lnTo>
                  <a:lnTo>
                    <a:pt x="1436" y="1848"/>
                  </a:lnTo>
                  <a:lnTo>
                    <a:pt x="1421" y="1846"/>
                  </a:lnTo>
                  <a:lnTo>
                    <a:pt x="1414" y="1917"/>
                  </a:lnTo>
                  <a:lnTo>
                    <a:pt x="1414" y="1918"/>
                  </a:lnTo>
                  <a:lnTo>
                    <a:pt x="1415" y="1924"/>
                  </a:lnTo>
                  <a:lnTo>
                    <a:pt x="1418" y="1927"/>
                  </a:lnTo>
                  <a:lnTo>
                    <a:pt x="1425" y="1936"/>
                  </a:lnTo>
                  <a:lnTo>
                    <a:pt x="1426" y="1939"/>
                  </a:lnTo>
                  <a:lnTo>
                    <a:pt x="1525" y="2038"/>
                  </a:lnTo>
                  <a:lnTo>
                    <a:pt x="1535" y="2027"/>
                  </a:lnTo>
                  <a:lnTo>
                    <a:pt x="1521" y="2033"/>
                  </a:lnTo>
                  <a:lnTo>
                    <a:pt x="1520" y="2028"/>
                  </a:lnTo>
                  <a:lnTo>
                    <a:pt x="1529" y="2113"/>
                  </a:lnTo>
                  <a:lnTo>
                    <a:pt x="1530" y="2118"/>
                  </a:lnTo>
                  <a:lnTo>
                    <a:pt x="1533" y="2122"/>
                  </a:lnTo>
                  <a:lnTo>
                    <a:pt x="1537" y="2126"/>
                  </a:lnTo>
                  <a:lnTo>
                    <a:pt x="1543" y="2127"/>
                  </a:lnTo>
                  <a:lnTo>
                    <a:pt x="1550" y="2127"/>
                  </a:lnTo>
                  <a:lnTo>
                    <a:pt x="1556" y="2126"/>
                  </a:lnTo>
                  <a:lnTo>
                    <a:pt x="1560" y="2122"/>
                  </a:lnTo>
                  <a:lnTo>
                    <a:pt x="1564" y="2118"/>
                  </a:lnTo>
                  <a:lnTo>
                    <a:pt x="1565" y="2112"/>
                  </a:lnTo>
                  <a:lnTo>
                    <a:pt x="1565" y="2111"/>
                  </a:lnTo>
                  <a:lnTo>
                    <a:pt x="1549" y="1964"/>
                  </a:lnTo>
                  <a:lnTo>
                    <a:pt x="1548" y="1959"/>
                  </a:lnTo>
                  <a:lnTo>
                    <a:pt x="1544" y="1956"/>
                  </a:lnTo>
                  <a:lnTo>
                    <a:pt x="1544" y="1954"/>
                  </a:lnTo>
                  <a:lnTo>
                    <a:pt x="1497" y="1917"/>
                  </a:lnTo>
                  <a:lnTo>
                    <a:pt x="1488" y="1928"/>
                  </a:lnTo>
                  <a:lnTo>
                    <a:pt x="1501" y="1934"/>
                  </a:lnTo>
                  <a:lnTo>
                    <a:pt x="1502" y="1928"/>
                  </a:lnTo>
                  <a:lnTo>
                    <a:pt x="1501" y="1922"/>
                  </a:lnTo>
                  <a:lnTo>
                    <a:pt x="1497" y="1918"/>
                  </a:lnTo>
                  <a:lnTo>
                    <a:pt x="1500" y="1936"/>
                  </a:lnTo>
                  <a:lnTo>
                    <a:pt x="1515" y="1913"/>
                  </a:lnTo>
                  <a:lnTo>
                    <a:pt x="1503" y="1905"/>
                  </a:lnTo>
                  <a:lnTo>
                    <a:pt x="1514" y="1914"/>
                  </a:lnTo>
                  <a:lnTo>
                    <a:pt x="1597" y="1820"/>
                  </a:lnTo>
                  <a:lnTo>
                    <a:pt x="1600" y="1816"/>
                  </a:lnTo>
                  <a:lnTo>
                    <a:pt x="1601" y="1812"/>
                  </a:lnTo>
                  <a:lnTo>
                    <a:pt x="1608" y="1760"/>
                  </a:lnTo>
                  <a:lnTo>
                    <a:pt x="1608" y="1758"/>
                  </a:lnTo>
                  <a:lnTo>
                    <a:pt x="1607" y="1752"/>
                  </a:lnTo>
                  <a:lnTo>
                    <a:pt x="1564" y="1672"/>
                  </a:lnTo>
                  <a:lnTo>
                    <a:pt x="1550" y="1678"/>
                  </a:lnTo>
                  <a:lnTo>
                    <a:pt x="1565" y="1678"/>
                  </a:lnTo>
                  <a:lnTo>
                    <a:pt x="1564" y="1672"/>
                  </a:lnTo>
                  <a:lnTo>
                    <a:pt x="1564" y="1683"/>
                  </a:lnTo>
                  <a:lnTo>
                    <a:pt x="1591" y="1598"/>
                  </a:lnTo>
                  <a:lnTo>
                    <a:pt x="1578" y="1593"/>
                  </a:lnTo>
                  <a:lnTo>
                    <a:pt x="1588" y="1602"/>
                  </a:lnTo>
                  <a:lnTo>
                    <a:pt x="1591" y="1599"/>
                  </a:lnTo>
                  <a:lnTo>
                    <a:pt x="1585" y="1606"/>
                  </a:lnTo>
                  <a:lnTo>
                    <a:pt x="1668" y="1564"/>
                  </a:lnTo>
                  <a:lnTo>
                    <a:pt x="1671" y="1560"/>
                  </a:lnTo>
                  <a:lnTo>
                    <a:pt x="1674" y="1556"/>
                  </a:lnTo>
                  <a:lnTo>
                    <a:pt x="1676" y="1550"/>
                  </a:lnTo>
                  <a:lnTo>
                    <a:pt x="1674" y="1544"/>
                  </a:lnTo>
                  <a:lnTo>
                    <a:pt x="1671" y="1540"/>
                  </a:lnTo>
                  <a:lnTo>
                    <a:pt x="1672" y="1540"/>
                  </a:lnTo>
                  <a:lnTo>
                    <a:pt x="1561" y="1431"/>
                  </a:lnTo>
                  <a:lnTo>
                    <a:pt x="1550" y="1441"/>
                  </a:lnTo>
                  <a:lnTo>
                    <a:pt x="1565" y="1441"/>
                  </a:lnTo>
                  <a:lnTo>
                    <a:pt x="1564" y="1435"/>
                  </a:lnTo>
                  <a:lnTo>
                    <a:pt x="1560" y="1431"/>
                  </a:lnTo>
                  <a:lnTo>
                    <a:pt x="1565" y="1441"/>
                  </a:lnTo>
                  <a:lnTo>
                    <a:pt x="1565" y="1205"/>
                  </a:lnTo>
                  <a:lnTo>
                    <a:pt x="1550" y="1205"/>
                  </a:lnTo>
                  <a:lnTo>
                    <a:pt x="1560" y="1215"/>
                  </a:lnTo>
                  <a:lnTo>
                    <a:pt x="1564" y="1211"/>
                  </a:lnTo>
                  <a:lnTo>
                    <a:pt x="1559" y="1218"/>
                  </a:lnTo>
                  <a:lnTo>
                    <a:pt x="1610" y="1180"/>
                  </a:lnTo>
                  <a:lnTo>
                    <a:pt x="1612" y="1177"/>
                  </a:lnTo>
                  <a:lnTo>
                    <a:pt x="1615" y="1174"/>
                  </a:lnTo>
                  <a:lnTo>
                    <a:pt x="1617" y="1168"/>
                  </a:lnTo>
                  <a:lnTo>
                    <a:pt x="1615" y="1162"/>
                  </a:lnTo>
                  <a:lnTo>
                    <a:pt x="1591" y="1110"/>
                  </a:lnTo>
                  <a:lnTo>
                    <a:pt x="1578" y="1116"/>
                  </a:lnTo>
                  <a:lnTo>
                    <a:pt x="1591" y="1122"/>
                  </a:lnTo>
                  <a:lnTo>
                    <a:pt x="1592" y="1116"/>
                  </a:lnTo>
                  <a:lnTo>
                    <a:pt x="1591" y="1110"/>
                  </a:lnTo>
                  <a:lnTo>
                    <a:pt x="1589" y="1125"/>
                  </a:lnTo>
                  <a:lnTo>
                    <a:pt x="1604" y="1106"/>
                  </a:lnTo>
                  <a:lnTo>
                    <a:pt x="1594" y="1096"/>
                  </a:lnTo>
                  <a:lnTo>
                    <a:pt x="1594" y="1111"/>
                  </a:lnTo>
                  <a:lnTo>
                    <a:pt x="1600" y="1110"/>
                  </a:lnTo>
                  <a:lnTo>
                    <a:pt x="1603" y="1106"/>
                  </a:lnTo>
                  <a:lnTo>
                    <a:pt x="1590" y="1111"/>
                  </a:lnTo>
                  <a:lnTo>
                    <a:pt x="1630" y="1120"/>
                  </a:lnTo>
                  <a:lnTo>
                    <a:pt x="1633" y="1106"/>
                  </a:lnTo>
                  <a:lnTo>
                    <a:pt x="1626" y="1118"/>
                  </a:lnTo>
                  <a:lnTo>
                    <a:pt x="1716" y="1180"/>
                  </a:lnTo>
                  <a:lnTo>
                    <a:pt x="1718" y="1181"/>
                  </a:lnTo>
                  <a:lnTo>
                    <a:pt x="1724" y="1182"/>
                  </a:lnTo>
                  <a:lnTo>
                    <a:pt x="1730" y="1181"/>
                  </a:lnTo>
                  <a:lnTo>
                    <a:pt x="1733" y="1177"/>
                  </a:lnTo>
                  <a:lnTo>
                    <a:pt x="1735" y="1177"/>
                  </a:lnTo>
                  <a:lnTo>
                    <a:pt x="1759" y="1148"/>
                  </a:lnTo>
                  <a:lnTo>
                    <a:pt x="1761" y="1145"/>
                  </a:lnTo>
                  <a:lnTo>
                    <a:pt x="1762" y="1139"/>
                  </a:lnTo>
                  <a:lnTo>
                    <a:pt x="1761" y="1133"/>
                  </a:lnTo>
                  <a:lnTo>
                    <a:pt x="1760" y="1130"/>
                  </a:lnTo>
                  <a:lnTo>
                    <a:pt x="1736" y="1097"/>
                  </a:lnTo>
                  <a:lnTo>
                    <a:pt x="1733" y="1096"/>
                  </a:lnTo>
                  <a:lnTo>
                    <a:pt x="1730" y="1093"/>
                  </a:lnTo>
                  <a:lnTo>
                    <a:pt x="1726" y="1093"/>
                  </a:lnTo>
                  <a:lnTo>
                    <a:pt x="1651" y="1083"/>
                  </a:lnTo>
                  <a:lnTo>
                    <a:pt x="1649" y="1096"/>
                  </a:lnTo>
                  <a:lnTo>
                    <a:pt x="1659" y="1086"/>
                  </a:lnTo>
                  <a:lnTo>
                    <a:pt x="1655" y="1083"/>
                  </a:lnTo>
                  <a:lnTo>
                    <a:pt x="1661" y="1089"/>
                  </a:lnTo>
                  <a:lnTo>
                    <a:pt x="1515" y="862"/>
                  </a:lnTo>
                  <a:lnTo>
                    <a:pt x="1326" y="579"/>
                  </a:lnTo>
                  <a:lnTo>
                    <a:pt x="1314" y="586"/>
                  </a:lnTo>
                  <a:lnTo>
                    <a:pt x="1328" y="581"/>
                  </a:lnTo>
                  <a:lnTo>
                    <a:pt x="1213" y="274"/>
                  </a:lnTo>
                  <a:lnTo>
                    <a:pt x="1213" y="273"/>
                  </a:lnTo>
                  <a:lnTo>
                    <a:pt x="1210" y="269"/>
                  </a:lnTo>
                  <a:lnTo>
                    <a:pt x="1206" y="266"/>
                  </a:lnTo>
                  <a:lnTo>
                    <a:pt x="1200" y="265"/>
                  </a:lnTo>
                  <a:lnTo>
                    <a:pt x="1194" y="266"/>
                  </a:lnTo>
                  <a:lnTo>
                    <a:pt x="1190" y="269"/>
                  </a:lnTo>
                  <a:lnTo>
                    <a:pt x="1187" y="273"/>
                  </a:lnTo>
                  <a:lnTo>
                    <a:pt x="1187" y="274"/>
                  </a:lnTo>
                  <a:lnTo>
                    <a:pt x="1179" y="294"/>
                  </a:lnTo>
                  <a:lnTo>
                    <a:pt x="1193" y="299"/>
                  </a:lnTo>
                  <a:lnTo>
                    <a:pt x="1184" y="288"/>
                  </a:lnTo>
                  <a:lnTo>
                    <a:pt x="1124" y="339"/>
                  </a:lnTo>
                  <a:lnTo>
                    <a:pt x="1133" y="350"/>
                  </a:lnTo>
                  <a:lnTo>
                    <a:pt x="1128" y="336"/>
                  </a:lnTo>
                  <a:lnTo>
                    <a:pt x="1046" y="365"/>
                  </a:lnTo>
                  <a:lnTo>
                    <a:pt x="1051" y="379"/>
                  </a:lnTo>
                  <a:lnTo>
                    <a:pt x="1057" y="365"/>
                  </a:lnTo>
                  <a:lnTo>
                    <a:pt x="1051" y="364"/>
                  </a:lnTo>
                  <a:lnTo>
                    <a:pt x="1062" y="369"/>
                  </a:lnTo>
                  <a:lnTo>
                    <a:pt x="1013" y="322"/>
                  </a:lnTo>
                  <a:lnTo>
                    <a:pt x="1009" y="318"/>
                  </a:lnTo>
                  <a:lnTo>
                    <a:pt x="1003" y="317"/>
                  </a:lnTo>
                  <a:lnTo>
                    <a:pt x="1000" y="318"/>
                  </a:lnTo>
                  <a:lnTo>
                    <a:pt x="950" y="328"/>
                  </a:lnTo>
                  <a:lnTo>
                    <a:pt x="952" y="341"/>
                  </a:lnTo>
                  <a:lnTo>
                    <a:pt x="957" y="328"/>
                  </a:lnTo>
                  <a:lnTo>
                    <a:pt x="905" y="313"/>
                  </a:lnTo>
                  <a:lnTo>
                    <a:pt x="900" y="326"/>
                  </a:lnTo>
                  <a:lnTo>
                    <a:pt x="915" y="326"/>
                  </a:lnTo>
                  <a:lnTo>
                    <a:pt x="913" y="320"/>
                  </a:lnTo>
                  <a:lnTo>
                    <a:pt x="910" y="317"/>
                  </a:lnTo>
                  <a:lnTo>
                    <a:pt x="906" y="313"/>
                  </a:lnTo>
                  <a:lnTo>
                    <a:pt x="915" y="326"/>
                  </a:lnTo>
                  <a:lnTo>
                    <a:pt x="915" y="269"/>
                  </a:lnTo>
                  <a:lnTo>
                    <a:pt x="913" y="263"/>
                  </a:lnTo>
                  <a:lnTo>
                    <a:pt x="910" y="260"/>
                  </a:lnTo>
                  <a:lnTo>
                    <a:pt x="910" y="258"/>
                  </a:lnTo>
                  <a:lnTo>
                    <a:pt x="839" y="198"/>
                  </a:lnTo>
                  <a:lnTo>
                    <a:pt x="835" y="195"/>
                  </a:lnTo>
                  <a:lnTo>
                    <a:pt x="829" y="194"/>
                  </a:lnTo>
                  <a:lnTo>
                    <a:pt x="779" y="194"/>
                  </a:lnTo>
                  <a:lnTo>
                    <a:pt x="779" y="209"/>
                  </a:lnTo>
                  <a:lnTo>
                    <a:pt x="787" y="197"/>
                  </a:lnTo>
                  <a:lnTo>
                    <a:pt x="673" y="120"/>
                  </a:lnTo>
                  <a:lnTo>
                    <a:pt x="670" y="119"/>
                  </a:lnTo>
                  <a:lnTo>
                    <a:pt x="664" y="118"/>
                  </a:lnTo>
                  <a:lnTo>
                    <a:pt x="658" y="119"/>
                  </a:lnTo>
                  <a:lnTo>
                    <a:pt x="657" y="120"/>
                  </a:lnTo>
                  <a:lnTo>
                    <a:pt x="535" y="200"/>
                  </a:lnTo>
                  <a:lnTo>
                    <a:pt x="543" y="212"/>
                  </a:lnTo>
                  <a:lnTo>
                    <a:pt x="549" y="199"/>
                  </a:lnTo>
                  <a:lnTo>
                    <a:pt x="543" y="198"/>
                  </a:lnTo>
                  <a:lnTo>
                    <a:pt x="537" y="199"/>
                  </a:lnTo>
                  <a:lnTo>
                    <a:pt x="550" y="200"/>
                  </a:lnTo>
                  <a:lnTo>
                    <a:pt x="316" y="68"/>
                  </a:lnTo>
                  <a:lnTo>
                    <a:pt x="315" y="67"/>
                  </a:lnTo>
                  <a:lnTo>
                    <a:pt x="309" y="65"/>
                  </a:lnTo>
                  <a:lnTo>
                    <a:pt x="246" y="65"/>
                  </a:lnTo>
                  <a:lnTo>
                    <a:pt x="246" y="80"/>
                  </a:lnTo>
                  <a:lnTo>
                    <a:pt x="256" y="70"/>
                  </a:lnTo>
                  <a:lnTo>
                    <a:pt x="252" y="67"/>
                  </a:lnTo>
                  <a:lnTo>
                    <a:pt x="259" y="72"/>
                  </a:lnTo>
                  <a:lnTo>
                    <a:pt x="208" y="6"/>
                  </a:lnTo>
                  <a:lnTo>
                    <a:pt x="206" y="5"/>
                  </a:lnTo>
                  <a:lnTo>
                    <a:pt x="202" y="1"/>
                  </a:lnTo>
                  <a:lnTo>
                    <a:pt x="196" y="0"/>
                  </a:lnTo>
                  <a:lnTo>
                    <a:pt x="190" y="1"/>
                  </a:lnTo>
                  <a:lnTo>
                    <a:pt x="186" y="5"/>
                  </a:lnTo>
                  <a:lnTo>
                    <a:pt x="184" y="7"/>
                  </a:lnTo>
                  <a:lnTo>
                    <a:pt x="124" y="107"/>
                  </a:lnTo>
                  <a:lnTo>
                    <a:pt x="136" y="114"/>
                  </a:lnTo>
                  <a:lnTo>
                    <a:pt x="136" y="99"/>
                  </a:lnTo>
                  <a:lnTo>
                    <a:pt x="130" y="101"/>
                  </a:lnTo>
                  <a:lnTo>
                    <a:pt x="126" y="104"/>
                  </a:lnTo>
                  <a:lnTo>
                    <a:pt x="136" y="99"/>
                  </a:lnTo>
                  <a:lnTo>
                    <a:pt x="120" y="99"/>
                  </a:lnTo>
                  <a:lnTo>
                    <a:pt x="120" y="129"/>
                  </a:lnTo>
                  <a:lnTo>
                    <a:pt x="136" y="129"/>
                  </a:lnTo>
                  <a:lnTo>
                    <a:pt x="142" y="127"/>
                  </a:lnTo>
                  <a:lnTo>
                    <a:pt x="145" y="124"/>
                  </a:lnTo>
                  <a:lnTo>
                    <a:pt x="148" y="121"/>
                  </a:lnTo>
                  <a:lnTo>
                    <a:pt x="208" y="22"/>
                  </a:lnTo>
                  <a:lnTo>
                    <a:pt x="186" y="24"/>
                  </a:lnTo>
                  <a:lnTo>
                    <a:pt x="190" y="28"/>
                  </a:lnTo>
                  <a:lnTo>
                    <a:pt x="196" y="29"/>
                  </a:lnTo>
                  <a:lnTo>
                    <a:pt x="202" y="28"/>
                  </a:lnTo>
                  <a:lnTo>
                    <a:pt x="206" y="24"/>
                  </a:lnTo>
                  <a:lnTo>
                    <a:pt x="196" y="14"/>
                  </a:lnTo>
                  <a:lnTo>
                    <a:pt x="185" y="24"/>
                  </a:lnTo>
                  <a:lnTo>
                    <a:pt x="236" y="90"/>
                  </a:lnTo>
                  <a:lnTo>
                    <a:pt x="237" y="90"/>
                  </a:lnTo>
                  <a:lnTo>
                    <a:pt x="240" y="93"/>
                  </a:lnTo>
                  <a:lnTo>
                    <a:pt x="246" y="95"/>
                  </a:lnTo>
                  <a:lnTo>
                    <a:pt x="309" y="95"/>
                  </a:lnTo>
                  <a:lnTo>
                    <a:pt x="309" y="80"/>
                  </a:lnTo>
                  <a:lnTo>
                    <a:pt x="302" y="93"/>
                  </a:lnTo>
                  <a:lnTo>
                    <a:pt x="535" y="226"/>
                  </a:lnTo>
                  <a:lnTo>
                    <a:pt x="537" y="226"/>
                  </a:lnTo>
                  <a:lnTo>
                    <a:pt x="543" y="227"/>
                  </a:lnTo>
                  <a:lnTo>
                    <a:pt x="549" y="226"/>
                  </a:lnTo>
                  <a:lnTo>
                    <a:pt x="551" y="224"/>
                  </a:lnTo>
                  <a:lnTo>
                    <a:pt x="673" y="144"/>
                  </a:lnTo>
                  <a:lnTo>
                    <a:pt x="658" y="146"/>
                  </a:lnTo>
                  <a:lnTo>
                    <a:pt x="664" y="147"/>
                  </a:lnTo>
                  <a:lnTo>
                    <a:pt x="670" y="146"/>
                  </a:lnTo>
                  <a:lnTo>
                    <a:pt x="664" y="132"/>
                  </a:lnTo>
                  <a:lnTo>
                    <a:pt x="657" y="144"/>
                  </a:lnTo>
                  <a:lnTo>
                    <a:pt x="771" y="221"/>
                  </a:lnTo>
                  <a:lnTo>
                    <a:pt x="773" y="222"/>
                  </a:lnTo>
                  <a:lnTo>
                    <a:pt x="779" y="223"/>
                  </a:lnTo>
                  <a:lnTo>
                    <a:pt x="829" y="223"/>
                  </a:lnTo>
                  <a:lnTo>
                    <a:pt x="823" y="222"/>
                  </a:lnTo>
                  <a:lnTo>
                    <a:pt x="829" y="209"/>
                  </a:lnTo>
                  <a:lnTo>
                    <a:pt x="821" y="220"/>
                  </a:lnTo>
                  <a:lnTo>
                    <a:pt x="892" y="280"/>
                  </a:lnTo>
                  <a:lnTo>
                    <a:pt x="886" y="269"/>
                  </a:lnTo>
                  <a:lnTo>
                    <a:pt x="887" y="275"/>
                  </a:lnTo>
                  <a:lnTo>
                    <a:pt x="891" y="279"/>
                  </a:lnTo>
                  <a:lnTo>
                    <a:pt x="900" y="269"/>
                  </a:lnTo>
                  <a:lnTo>
                    <a:pt x="886" y="269"/>
                  </a:lnTo>
                  <a:lnTo>
                    <a:pt x="886" y="326"/>
                  </a:lnTo>
                  <a:lnTo>
                    <a:pt x="887" y="333"/>
                  </a:lnTo>
                  <a:lnTo>
                    <a:pt x="891" y="336"/>
                  </a:lnTo>
                  <a:lnTo>
                    <a:pt x="894" y="340"/>
                  </a:lnTo>
                  <a:lnTo>
                    <a:pt x="897" y="341"/>
                  </a:lnTo>
                  <a:lnTo>
                    <a:pt x="948" y="356"/>
                  </a:lnTo>
                  <a:lnTo>
                    <a:pt x="952" y="356"/>
                  </a:lnTo>
                  <a:lnTo>
                    <a:pt x="954" y="356"/>
                  </a:lnTo>
                  <a:lnTo>
                    <a:pt x="1005" y="346"/>
                  </a:lnTo>
                  <a:lnTo>
                    <a:pt x="997" y="345"/>
                  </a:lnTo>
                  <a:lnTo>
                    <a:pt x="1003" y="346"/>
                  </a:lnTo>
                  <a:lnTo>
                    <a:pt x="1003" y="331"/>
                  </a:lnTo>
                  <a:lnTo>
                    <a:pt x="993" y="342"/>
                  </a:lnTo>
                  <a:lnTo>
                    <a:pt x="1041" y="390"/>
                  </a:lnTo>
                  <a:lnTo>
                    <a:pt x="1045" y="392"/>
                  </a:lnTo>
                  <a:lnTo>
                    <a:pt x="1051" y="393"/>
                  </a:lnTo>
                  <a:lnTo>
                    <a:pt x="1055" y="392"/>
                  </a:lnTo>
                  <a:lnTo>
                    <a:pt x="1137" y="363"/>
                  </a:lnTo>
                  <a:lnTo>
                    <a:pt x="1139" y="363"/>
                  </a:lnTo>
                  <a:lnTo>
                    <a:pt x="1142" y="360"/>
                  </a:lnTo>
                  <a:lnTo>
                    <a:pt x="1202" y="309"/>
                  </a:lnTo>
                  <a:lnTo>
                    <a:pt x="1202" y="308"/>
                  </a:lnTo>
                  <a:lnTo>
                    <a:pt x="1206" y="305"/>
                  </a:lnTo>
                  <a:lnTo>
                    <a:pt x="1213" y="285"/>
                  </a:lnTo>
                  <a:lnTo>
                    <a:pt x="1187" y="285"/>
                  </a:lnTo>
                  <a:lnTo>
                    <a:pt x="1190" y="289"/>
                  </a:lnTo>
                  <a:lnTo>
                    <a:pt x="1194" y="292"/>
                  </a:lnTo>
                  <a:lnTo>
                    <a:pt x="1200" y="294"/>
                  </a:lnTo>
                  <a:lnTo>
                    <a:pt x="1206" y="292"/>
                  </a:lnTo>
                  <a:lnTo>
                    <a:pt x="1210" y="289"/>
                  </a:lnTo>
                  <a:lnTo>
                    <a:pt x="1213" y="285"/>
                  </a:lnTo>
                  <a:lnTo>
                    <a:pt x="1200" y="279"/>
                  </a:lnTo>
                  <a:lnTo>
                    <a:pt x="1187" y="285"/>
                  </a:lnTo>
                  <a:lnTo>
                    <a:pt x="1301" y="592"/>
                  </a:lnTo>
                  <a:lnTo>
                    <a:pt x="1302" y="595"/>
                  </a:lnTo>
                  <a:lnTo>
                    <a:pt x="1491" y="878"/>
                  </a:lnTo>
                  <a:lnTo>
                    <a:pt x="1637" y="1105"/>
                  </a:lnTo>
                  <a:lnTo>
                    <a:pt x="1639" y="1106"/>
                  </a:lnTo>
                  <a:lnTo>
                    <a:pt x="1643" y="1110"/>
                  </a:lnTo>
                  <a:lnTo>
                    <a:pt x="1648" y="1111"/>
                  </a:lnTo>
                  <a:lnTo>
                    <a:pt x="1722" y="1120"/>
                  </a:lnTo>
                  <a:lnTo>
                    <a:pt x="1714" y="1116"/>
                  </a:lnTo>
                  <a:lnTo>
                    <a:pt x="1718" y="1119"/>
                  </a:lnTo>
                  <a:lnTo>
                    <a:pt x="1724" y="1106"/>
                  </a:lnTo>
                  <a:lnTo>
                    <a:pt x="1713" y="1114"/>
                  </a:lnTo>
                  <a:lnTo>
                    <a:pt x="1737" y="1147"/>
                  </a:lnTo>
                  <a:lnTo>
                    <a:pt x="1735" y="1133"/>
                  </a:lnTo>
                  <a:lnTo>
                    <a:pt x="1733" y="1139"/>
                  </a:lnTo>
                  <a:lnTo>
                    <a:pt x="1735" y="1145"/>
                  </a:lnTo>
                  <a:lnTo>
                    <a:pt x="1748" y="1139"/>
                  </a:lnTo>
                  <a:lnTo>
                    <a:pt x="1737" y="1130"/>
                  </a:lnTo>
                  <a:lnTo>
                    <a:pt x="1713" y="1159"/>
                  </a:lnTo>
                  <a:lnTo>
                    <a:pt x="1730" y="1154"/>
                  </a:lnTo>
                  <a:lnTo>
                    <a:pt x="1724" y="1153"/>
                  </a:lnTo>
                  <a:lnTo>
                    <a:pt x="1718" y="1154"/>
                  </a:lnTo>
                  <a:lnTo>
                    <a:pt x="1714" y="1158"/>
                  </a:lnTo>
                  <a:lnTo>
                    <a:pt x="1724" y="1168"/>
                  </a:lnTo>
                  <a:lnTo>
                    <a:pt x="1732" y="1157"/>
                  </a:lnTo>
                  <a:lnTo>
                    <a:pt x="1642" y="1095"/>
                  </a:lnTo>
                  <a:lnTo>
                    <a:pt x="1639" y="1093"/>
                  </a:lnTo>
                  <a:lnTo>
                    <a:pt x="1637" y="1093"/>
                  </a:lnTo>
                  <a:lnTo>
                    <a:pt x="1597" y="1083"/>
                  </a:lnTo>
                  <a:lnTo>
                    <a:pt x="1594" y="1082"/>
                  </a:lnTo>
                  <a:lnTo>
                    <a:pt x="1588" y="1083"/>
                  </a:lnTo>
                  <a:lnTo>
                    <a:pt x="1584" y="1086"/>
                  </a:lnTo>
                  <a:lnTo>
                    <a:pt x="1583" y="1088"/>
                  </a:lnTo>
                  <a:lnTo>
                    <a:pt x="1567" y="1107"/>
                  </a:lnTo>
                  <a:lnTo>
                    <a:pt x="1565" y="1110"/>
                  </a:lnTo>
                  <a:lnTo>
                    <a:pt x="1564" y="1116"/>
                  </a:lnTo>
                  <a:lnTo>
                    <a:pt x="1565" y="1122"/>
                  </a:lnTo>
                  <a:lnTo>
                    <a:pt x="1589" y="1174"/>
                  </a:lnTo>
                  <a:lnTo>
                    <a:pt x="1592" y="1158"/>
                  </a:lnTo>
                  <a:lnTo>
                    <a:pt x="1589" y="1162"/>
                  </a:lnTo>
                  <a:lnTo>
                    <a:pt x="1588" y="1168"/>
                  </a:lnTo>
                  <a:lnTo>
                    <a:pt x="1589" y="1174"/>
                  </a:lnTo>
                  <a:lnTo>
                    <a:pt x="1602" y="1168"/>
                  </a:lnTo>
                  <a:lnTo>
                    <a:pt x="1594" y="1157"/>
                  </a:lnTo>
                  <a:lnTo>
                    <a:pt x="1542" y="1194"/>
                  </a:lnTo>
                  <a:lnTo>
                    <a:pt x="1541" y="1196"/>
                  </a:lnTo>
                  <a:lnTo>
                    <a:pt x="1537" y="1199"/>
                  </a:lnTo>
                  <a:lnTo>
                    <a:pt x="1536" y="1205"/>
                  </a:lnTo>
                  <a:lnTo>
                    <a:pt x="1536" y="1441"/>
                  </a:lnTo>
                  <a:lnTo>
                    <a:pt x="1537" y="1447"/>
                  </a:lnTo>
                  <a:lnTo>
                    <a:pt x="1541" y="1451"/>
                  </a:lnTo>
                  <a:lnTo>
                    <a:pt x="1541" y="1452"/>
                  </a:lnTo>
                  <a:lnTo>
                    <a:pt x="1651" y="1561"/>
                  </a:lnTo>
                  <a:lnTo>
                    <a:pt x="1651" y="1540"/>
                  </a:lnTo>
                  <a:lnTo>
                    <a:pt x="1648" y="1544"/>
                  </a:lnTo>
                  <a:lnTo>
                    <a:pt x="1647" y="1550"/>
                  </a:lnTo>
                  <a:lnTo>
                    <a:pt x="1648" y="1556"/>
                  </a:lnTo>
                  <a:lnTo>
                    <a:pt x="1651" y="1560"/>
                  </a:lnTo>
                  <a:lnTo>
                    <a:pt x="1661" y="1550"/>
                  </a:lnTo>
                  <a:lnTo>
                    <a:pt x="1655" y="1538"/>
                  </a:lnTo>
                  <a:lnTo>
                    <a:pt x="1572" y="1581"/>
                  </a:lnTo>
                  <a:lnTo>
                    <a:pt x="1568" y="1583"/>
                  </a:lnTo>
                  <a:lnTo>
                    <a:pt x="1565" y="1587"/>
                  </a:lnTo>
                  <a:lnTo>
                    <a:pt x="1565" y="1588"/>
                  </a:lnTo>
                  <a:lnTo>
                    <a:pt x="1537" y="1673"/>
                  </a:lnTo>
                  <a:lnTo>
                    <a:pt x="1536" y="1678"/>
                  </a:lnTo>
                  <a:lnTo>
                    <a:pt x="1537" y="1684"/>
                  </a:lnTo>
                  <a:lnTo>
                    <a:pt x="1538" y="1685"/>
                  </a:lnTo>
                  <a:lnTo>
                    <a:pt x="1582" y="1765"/>
                  </a:lnTo>
                  <a:lnTo>
                    <a:pt x="1594" y="1758"/>
                  </a:lnTo>
                  <a:lnTo>
                    <a:pt x="1580" y="1757"/>
                  </a:lnTo>
                  <a:lnTo>
                    <a:pt x="1573" y="1809"/>
                  </a:lnTo>
                  <a:lnTo>
                    <a:pt x="1573" y="1804"/>
                  </a:lnTo>
                  <a:lnTo>
                    <a:pt x="1572" y="1810"/>
                  </a:lnTo>
                  <a:lnTo>
                    <a:pt x="1586" y="1810"/>
                  </a:lnTo>
                  <a:lnTo>
                    <a:pt x="1576" y="1800"/>
                  </a:lnTo>
                  <a:lnTo>
                    <a:pt x="1493" y="1895"/>
                  </a:lnTo>
                  <a:lnTo>
                    <a:pt x="1493" y="1897"/>
                  </a:lnTo>
                  <a:lnTo>
                    <a:pt x="1477" y="1920"/>
                  </a:lnTo>
                  <a:lnTo>
                    <a:pt x="1474" y="1922"/>
                  </a:lnTo>
                  <a:lnTo>
                    <a:pt x="1473" y="1928"/>
                  </a:lnTo>
                  <a:lnTo>
                    <a:pt x="1474" y="1934"/>
                  </a:lnTo>
                  <a:lnTo>
                    <a:pt x="1478" y="1937"/>
                  </a:lnTo>
                  <a:lnTo>
                    <a:pt x="1479" y="1939"/>
                  </a:lnTo>
                  <a:lnTo>
                    <a:pt x="1526" y="1976"/>
                  </a:lnTo>
                  <a:lnTo>
                    <a:pt x="1521" y="1971"/>
                  </a:lnTo>
                  <a:lnTo>
                    <a:pt x="1525" y="1975"/>
                  </a:lnTo>
                  <a:lnTo>
                    <a:pt x="1535" y="1965"/>
                  </a:lnTo>
                  <a:lnTo>
                    <a:pt x="1521" y="1968"/>
                  </a:lnTo>
                  <a:lnTo>
                    <a:pt x="1537" y="2115"/>
                  </a:lnTo>
                  <a:lnTo>
                    <a:pt x="1550" y="2098"/>
                  </a:lnTo>
                  <a:lnTo>
                    <a:pt x="1544" y="2099"/>
                  </a:lnTo>
                  <a:lnTo>
                    <a:pt x="1541" y="2103"/>
                  </a:lnTo>
                  <a:lnTo>
                    <a:pt x="1537" y="2106"/>
                  </a:lnTo>
                  <a:lnTo>
                    <a:pt x="1536" y="2112"/>
                  </a:lnTo>
                  <a:lnTo>
                    <a:pt x="1550" y="2112"/>
                  </a:lnTo>
                  <a:lnTo>
                    <a:pt x="1550" y="2098"/>
                  </a:lnTo>
                  <a:lnTo>
                    <a:pt x="1543" y="2098"/>
                  </a:lnTo>
                  <a:lnTo>
                    <a:pt x="1556" y="2106"/>
                  </a:lnTo>
                  <a:lnTo>
                    <a:pt x="1553" y="2103"/>
                  </a:lnTo>
                  <a:lnTo>
                    <a:pt x="1549" y="2099"/>
                  </a:lnTo>
                  <a:lnTo>
                    <a:pt x="1543" y="2112"/>
                  </a:lnTo>
                  <a:lnTo>
                    <a:pt x="1558" y="2111"/>
                  </a:lnTo>
                  <a:lnTo>
                    <a:pt x="1549" y="2026"/>
                  </a:lnTo>
                  <a:lnTo>
                    <a:pt x="1548" y="2021"/>
                  </a:lnTo>
                  <a:lnTo>
                    <a:pt x="1545" y="2018"/>
                  </a:lnTo>
                  <a:lnTo>
                    <a:pt x="1447" y="1918"/>
                  </a:lnTo>
                  <a:lnTo>
                    <a:pt x="1436" y="1928"/>
                  </a:lnTo>
                  <a:lnTo>
                    <a:pt x="1448" y="1919"/>
                  </a:lnTo>
                  <a:lnTo>
                    <a:pt x="1441" y="1910"/>
                  </a:lnTo>
                  <a:lnTo>
                    <a:pt x="1443" y="1918"/>
                  </a:lnTo>
                  <a:lnTo>
                    <a:pt x="1442" y="1912"/>
                  </a:lnTo>
                  <a:lnTo>
                    <a:pt x="1429" y="1918"/>
                  </a:lnTo>
                  <a:lnTo>
                    <a:pt x="1443" y="1920"/>
                  </a:lnTo>
                  <a:lnTo>
                    <a:pt x="1450" y="1850"/>
                  </a:lnTo>
                  <a:lnTo>
                    <a:pt x="1450" y="1846"/>
                  </a:lnTo>
                  <a:lnTo>
                    <a:pt x="1443" y="1766"/>
                  </a:lnTo>
                  <a:lnTo>
                    <a:pt x="1442" y="1761"/>
                  </a:lnTo>
                  <a:lnTo>
                    <a:pt x="1438" y="1758"/>
                  </a:lnTo>
                  <a:lnTo>
                    <a:pt x="1438" y="1757"/>
                  </a:lnTo>
                  <a:lnTo>
                    <a:pt x="1324" y="1667"/>
                  </a:lnTo>
                  <a:lnTo>
                    <a:pt x="1320" y="1664"/>
                  </a:lnTo>
                  <a:lnTo>
                    <a:pt x="1314" y="1663"/>
                  </a:lnTo>
                  <a:lnTo>
                    <a:pt x="1313" y="1664"/>
                  </a:lnTo>
                  <a:lnTo>
                    <a:pt x="1278" y="1669"/>
                  </a:lnTo>
                  <a:lnTo>
                    <a:pt x="1273" y="1669"/>
                  </a:lnTo>
                  <a:lnTo>
                    <a:pt x="1270" y="1673"/>
                  </a:lnTo>
                  <a:lnTo>
                    <a:pt x="1266" y="1676"/>
                  </a:lnTo>
                  <a:lnTo>
                    <a:pt x="1265" y="1683"/>
                  </a:lnTo>
                  <a:lnTo>
                    <a:pt x="1265" y="1730"/>
                  </a:lnTo>
                  <a:lnTo>
                    <a:pt x="1266" y="1736"/>
                  </a:lnTo>
                  <a:lnTo>
                    <a:pt x="1269" y="1740"/>
                  </a:lnTo>
                  <a:lnTo>
                    <a:pt x="1319" y="1795"/>
                  </a:lnTo>
                  <a:lnTo>
                    <a:pt x="1317" y="1792"/>
                  </a:lnTo>
                  <a:lnTo>
                    <a:pt x="1330" y="1786"/>
                  </a:lnTo>
                  <a:lnTo>
                    <a:pt x="1317" y="1788"/>
                  </a:lnTo>
                  <a:lnTo>
                    <a:pt x="1325" y="1860"/>
                  </a:lnTo>
                  <a:lnTo>
                    <a:pt x="1338" y="1857"/>
                  </a:lnTo>
                  <a:lnTo>
                    <a:pt x="1326" y="1851"/>
                  </a:lnTo>
                  <a:lnTo>
                    <a:pt x="1318" y="1869"/>
                  </a:lnTo>
                  <a:lnTo>
                    <a:pt x="1336" y="1862"/>
                  </a:lnTo>
                  <a:lnTo>
                    <a:pt x="1330" y="1861"/>
                  </a:lnTo>
                  <a:lnTo>
                    <a:pt x="1324" y="1862"/>
                  </a:lnTo>
                  <a:lnTo>
                    <a:pt x="1320" y="1866"/>
                  </a:lnTo>
                  <a:lnTo>
                    <a:pt x="1330" y="1876"/>
                  </a:lnTo>
                  <a:lnTo>
                    <a:pt x="1336" y="1862"/>
                  </a:lnTo>
                  <a:lnTo>
                    <a:pt x="1230" y="1815"/>
                  </a:lnTo>
                  <a:lnTo>
                    <a:pt x="1224" y="1814"/>
                  </a:lnTo>
                  <a:lnTo>
                    <a:pt x="1193" y="1814"/>
                  </a:lnTo>
                  <a:lnTo>
                    <a:pt x="1202" y="1818"/>
                  </a:lnTo>
                  <a:lnTo>
                    <a:pt x="1199" y="1815"/>
                  </a:lnTo>
                  <a:lnTo>
                    <a:pt x="1193" y="1828"/>
                  </a:lnTo>
                  <a:lnTo>
                    <a:pt x="1205" y="1821"/>
                  </a:lnTo>
                  <a:lnTo>
                    <a:pt x="1129" y="1703"/>
                  </a:lnTo>
                  <a:lnTo>
                    <a:pt x="1127" y="1720"/>
                  </a:lnTo>
                  <a:lnTo>
                    <a:pt x="1130" y="1716"/>
                  </a:lnTo>
                  <a:lnTo>
                    <a:pt x="1131" y="1710"/>
                  </a:lnTo>
                  <a:lnTo>
                    <a:pt x="1130" y="1704"/>
                  </a:lnTo>
                  <a:lnTo>
                    <a:pt x="1117" y="1710"/>
                  </a:lnTo>
                  <a:lnTo>
                    <a:pt x="1125" y="1723"/>
                  </a:lnTo>
                  <a:lnTo>
                    <a:pt x="1181" y="1680"/>
                  </a:lnTo>
                  <a:lnTo>
                    <a:pt x="1182" y="1678"/>
                  </a:lnTo>
                  <a:lnTo>
                    <a:pt x="1186" y="1674"/>
                  </a:lnTo>
                  <a:lnTo>
                    <a:pt x="1187" y="1668"/>
                  </a:lnTo>
                  <a:lnTo>
                    <a:pt x="1187" y="1621"/>
                  </a:lnTo>
                  <a:lnTo>
                    <a:pt x="1172" y="1621"/>
                  </a:lnTo>
                  <a:lnTo>
                    <a:pt x="1186" y="1627"/>
                  </a:lnTo>
                  <a:lnTo>
                    <a:pt x="1201" y="1589"/>
                  </a:lnTo>
                  <a:lnTo>
                    <a:pt x="1202" y="1583"/>
                  </a:lnTo>
                  <a:lnTo>
                    <a:pt x="1202" y="1581"/>
                  </a:lnTo>
                  <a:lnTo>
                    <a:pt x="1171" y="1438"/>
                  </a:lnTo>
                  <a:lnTo>
                    <a:pt x="1170" y="1435"/>
                  </a:lnTo>
                  <a:lnTo>
                    <a:pt x="1167" y="1431"/>
                  </a:lnTo>
                  <a:lnTo>
                    <a:pt x="1013" y="1266"/>
                  </a:lnTo>
                  <a:lnTo>
                    <a:pt x="1012" y="1266"/>
                  </a:lnTo>
                  <a:lnTo>
                    <a:pt x="1010" y="1264"/>
                  </a:lnTo>
                  <a:lnTo>
                    <a:pt x="907" y="1211"/>
                  </a:lnTo>
                  <a:lnTo>
                    <a:pt x="900" y="1224"/>
                  </a:lnTo>
                  <a:lnTo>
                    <a:pt x="912" y="1215"/>
                  </a:lnTo>
                  <a:lnTo>
                    <a:pt x="858" y="1140"/>
                  </a:lnTo>
                  <a:lnTo>
                    <a:pt x="856" y="1139"/>
                  </a:lnTo>
                  <a:lnTo>
                    <a:pt x="852" y="1135"/>
                  </a:lnTo>
                  <a:lnTo>
                    <a:pt x="850" y="1135"/>
                  </a:lnTo>
                  <a:lnTo>
                    <a:pt x="708" y="1107"/>
                  </a:lnTo>
                  <a:lnTo>
                    <a:pt x="714" y="1111"/>
                  </a:lnTo>
                  <a:lnTo>
                    <a:pt x="710" y="1107"/>
                  </a:lnTo>
                  <a:lnTo>
                    <a:pt x="704" y="1120"/>
                  </a:lnTo>
                  <a:lnTo>
                    <a:pt x="715" y="1112"/>
                  </a:lnTo>
                  <a:lnTo>
                    <a:pt x="644" y="1022"/>
                  </a:lnTo>
                  <a:lnTo>
                    <a:pt x="647" y="1031"/>
                  </a:lnTo>
                  <a:lnTo>
                    <a:pt x="646" y="1025"/>
                  </a:lnTo>
                  <a:lnTo>
                    <a:pt x="633" y="1031"/>
                  </a:lnTo>
                  <a:lnTo>
                    <a:pt x="646" y="1035"/>
                  </a:lnTo>
                  <a:lnTo>
                    <a:pt x="669" y="964"/>
                  </a:lnTo>
                  <a:lnTo>
                    <a:pt x="670" y="959"/>
                  </a:lnTo>
                  <a:lnTo>
                    <a:pt x="669" y="953"/>
                  </a:lnTo>
                  <a:lnTo>
                    <a:pt x="669" y="952"/>
                  </a:lnTo>
                  <a:lnTo>
                    <a:pt x="610" y="844"/>
                  </a:lnTo>
                  <a:lnTo>
                    <a:pt x="606" y="841"/>
                  </a:lnTo>
                  <a:lnTo>
                    <a:pt x="604" y="839"/>
                  </a:lnTo>
                  <a:lnTo>
                    <a:pt x="550" y="811"/>
                  </a:lnTo>
                  <a:lnTo>
                    <a:pt x="543" y="823"/>
                  </a:lnTo>
                  <a:lnTo>
                    <a:pt x="552" y="813"/>
                  </a:lnTo>
                  <a:lnTo>
                    <a:pt x="426" y="694"/>
                  </a:lnTo>
                  <a:lnTo>
                    <a:pt x="422" y="691"/>
                  </a:lnTo>
                  <a:lnTo>
                    <a:pt x="419" y="691"/>
                  </a:lnTo>
                  <a:lnTo>
                    <a:pt x="363" y="681"/>
                  </a:lnTo>
                  <a:lnTo>
                    <a:pt x="361" y="680"/>
                  </a:lnTo>
                  <a:lnTo>
                    <a:pt x="355" y="681"/>
                  </a:lnTo>
                  <a:lnTo>
                    <a:pt x="354" y="682"/>
                  </a:lnTo>
                  <a:lnTo>
                    <a:pt x="338" y="692"/>
                  </a:lnTo>
                  <a:lnTo>
                    <a:pt x="336" y="694"/>
                  </a:lnTo>
                  <a:lnTo>
                    <a:pt x="332" y="698"/>
                  </a:lnTo>
                  <a:lnTo>
                    <a:pt x="331" y="704"/>
                  </a:lnTo>
                  <a:lnTo>
                    <a:pt x="332" y="706"/>
                  </a:lnTo>
                  <a:lnTo>
                    <a:pt x="339" y="764"/>
                  </a:lnTo>
                  <a:lnTo>
                    <a:pt x="339" y="767"/>
                  </a:lnTo>
                  <a:lnTo>
                    <a:pt x="343" y="771"/>
                  </a:lnTo>
                  <a:lnTo>
                    <a:pt x="434" y="870"/>
                  </a:lnTo>
                  <a:lnTo>
                    <a:pt x="438" y="874"/>
                  </a:lnTo>
                  <a:lnTo>
                    <a:pt x="439" y="874"/>
                  </a:lnTo>
                  <a:lnTo>
                    <a:pt x="494" y="892"/>
                  </a:lnTo>
                  <a:lnTo>
                    <a:pt x="499" y="879"/>
                  </a:lnTo>
                  <a:lnTo>
                    <a:pt x="488" y="889"/>
                  </a:lnTo>
                  <a:lnTo>
                    <a:pt x="515" y="921"/>
                  </a:lnTo>
                  <a:lnTo>
                    <a:pt x="511" y="912"/>
                  </a:lnTo>
                  <a:lnTo>
                    <a:pt x="513" y="918"/>
                  </a:lnTo>
                  <a:lnTo>
                    <a:pt x="526" y="912"/>
                  </a:lnTo>
                  <a:lnTo>
                    <a:pt x="513" y="907"/>
                  </a:lnTo>
                  <a:lnTo>
                    <a:pt x="493" y="954"/>
                  </a:lnTo>
                  <a:lnTo>
                    <a:pt x="500" y="946"/>
                  </a:lnTo>
                  <a:lnTo>
                    <a:pt x="497" y="949"/>
                  </a:lnTo>
                  <a:lnTo>
                    <a:pt x="493" y="953"/>
                  </a:lnTo>
                  <a:lnTo>
                    <a:pt x="507" y="959"/>
                  </a:lnTo>
                  <a:lnTo>
                    <a:pt x="502" y="946"/>
                  </a:lnTo>
                  <a:lnTo>
                    <a:pt x="455" y="965"/>
                  </a:lnTo>
                  <a:lnTo>
                    <a:pt x="454" y="965"/>
                  </a:lnTo>
                  <a:lnTo>
                    <a:pt x="450" y="969"/>
                  </a:lnTo>
                  <a:lnTo>
                    <a:pt x="448" y="971"/>
                  </a:lnTo>
                  <a:lnTo>
                    <a:pt x="389" y="1071"/>
                  </a:lnTo>
                  <a:lnTo>
                    <a:pt x="410" y="1068"/>
                  </a:lnTo>
                  <a:lnTo>
                    <a:pt x="407" y="1065"/>
                  </a:lnTo>
                  <a:lnTo>
                    <a:pt x="401" y="1063"/>
                  </a:lnTo>
                  <a:lnTo>
                    <a:pt x="395" y="1065"/>
                  </a:lnTo>
                  <a:lnTo>
                    <a:pt x="391" y="1068"/>
                  </a:lnTo>
                  <a:lnTo>
                    <a:pt x="401" y="1078"/>
                  </a:lnTo>
                  <a:lnTo>
                    <a:pt x="411" y="1069"/>
                  </a:lnTo>
                  <a:lnTo>
                    <a:pt x="363" y="1012"/>
                  </a:lnTo>
                  <a:lnTo>
                    <a:pt x="266" y="895"/>
                  </a:lnTo>
                  <a:lnTo>
                    <a:pt x="265" y="893"/>
                  </a:lnTo>
                  <a:lnTo>
                    <a:pt x="261" y="890"/>
                  </a:lnTo>
                  <a:lnTo>
                    <a:pt x="126" y="838"/>
                  </a:lnTo>
                  <a:lnTo>
                    <a:pt x="130" y="841"/>
                  </a:lnTo>
                  <a:lnTo>
                    <a:pt x="126" y="838"/>
                  </a:lnTo>
                  <a:lnTo>
                    <a:pt x="120" y="851"/>
                  </a:lnTo>
                  <a:lnTo>
                    <a:pt x="133" y="845"/>
                  </a:lnTo>
                  <a:lnTo>
                    <a:pt x="51" y="660"/>
                  </a:lnTo>
                  <a:lnTo>
                    <a:pt x="38" y="666"/>
                  </a:lnTo>
                  <a:lnTo>
                    <a:pt x="53" y="664"/>
                  </a:lnTo>
                  <a:lnTo>
                    <a:pt x="37" y="564"/>
                  </a:lnTo>
                  <a:lnTo>
                    <a:pt x="32" y="577"/>
                  </a:lnTo>
                  <a:lnTo>
                    <a:pt x="36" y="573"/>
                  </a:lnTo>
                  <a:lnTo>
                    <a:pt x="37" y="567"/>
                  </a:lnTo>
                  <a:lnTo>
                    <a:pt x="23" y="567"/>
                  </a:lnTo>
                  <a:lnTo>
                    <a:pt x="32" y="578"/>
                  </a:lnTo>
                  <a:lnTo>
                    <a:pt x="67" y="545"/>
                  </a:lnTo>
                  <a:lnTo>
                    <a:pt x="67" y="544"/>
                  </a:lnTo>
                  <a:lnTo>
                    <a:pt x="71" y="540"/>
                  </a:lnTo>
                  <a:lnTo>
                    <a:pt x="72" y="534"/>
                  </a:lnTo>
                  <a:lnTo>
                    <a:pt x="72" y="469"/>
                  </a:lnTo>
                  <a:lnTo>
                    <a:pt x="67" y="478"/>
                  </a:lnTo>
                  <a:lnTo>
                    <a:pt x="71" y="475"/>
                  </a:lnTo>
                  <a:lnTo>
                    <a:pt x="72" y="469"/>
                  </a:lnTo>
                  <a:lnTo>
                    <a:pt x="57" y="469"/>
                  </a:lnTo>
                  <a:lnTo>
                    <a:pt x="67" y="481"/>
                  </a:lnTo>
                  <a:lnTo>
                    <a:pt x="145" y="419"/>
                  </a:lnTo>
                  <a:lnTo>
                    <a:pt x="145" y="416"/>
                  </a:lnTo>
                  <a:lnTo>
                    <a:pt x="149" y="413"/>
                  </a:lnTo>
                  <a:lnTo>
                    <a:pt x="150" y="407"/>
                  </a:lnTo>
                  <a:lnTo>
                    <a:pt x="150" y="405"/>
                  </a:lnTo>
                  <a:lnTo>
                    <a:pt x="134" y="288"/>
                  </a:lnTo>
                  <a:lnTo>
                    <a:pt x="133" y="283"/>
                  </a:lnTo>
                  <a:lnTo>
                    <a:pt x="130" y="279"/>
                  </a:lnTo>
                  <a:lnTo>
                    <a:pt x="126" y="275"/>
                  </a:lnTo>
                  <a:lnTo>
                    <a:pt x="125" y="275"/>
                  </a:lnTo>
                  <a:lnTo>
                    <a:pt x="71" y="256"/>
                  </a:lnTo>
                  <a:lnTo>
                    <a:pt x="66" y="269"/>
                  </a:lnTo>
                  <a:lnTo>
                    <a:pt x="77" y="260"/>
                  </a:lnTo>
                  <a:lnTo>
                    <a:pt x="25" y="203"/>
                  </a:lnTo>
                  <a:lnTo>
                    <a:pt x="20" y="226"/>
                  </a:lnTo>
                  <a:lnTo>
                    <a:pt x="24" y="222"/>
                  </a:lnTo>
                  <a:lnTo>
                    <a:pt x="27" y="218"/>
                  </a:lnTo>
                  <a:lnTo>
                    <a:pt x="29" y="212"/>
                  </a:lnTo>
                  <a:lnTo>
                    <a:pt x="27" y="206"/>
                  </a:lnTo>
                  <a:lnTo>
                    <a:pt x="14" y="212"/>
                  </a:lnTo>
                  <a:lnTo>
                    <a:pt x="15" y="227"/>
                  </a:lnTo>
                  <a:lnTo>
                    <a:pt x="114" y="223"/>
                  </a:lnTo>
                  <a:lnTo>
                    <a:pt x="119" y="222"/>
                  </a:lnTo>
                  <a:lnTo>
                    <a:pt x="122" y="218"/>
                  </a:lnTo>
                  <a:lnTo>
                    <a:pt x="126" y="215"/>
                  </a:lnTo>
                  <a:lnTo>
                    <a:pt x="127" y="209"/>
                  </a:lnTo>
                  <a:lnTo>
                    <a:pt x="127" y="161"/>
                  </a:lnTo>
                  <a:lnTo>
                    <a:pt x="126" y="167"/>
                  </a:lnTo>
                  <a:lnTo>
                    <a:pt x="127" y="161"/>
                  </a:lnTo>
                  <a:lnTo>
                    <a:pt x="113" y="161"/>
                  </a:lnTo>
                  <a:lnTo>
                    <a:pt x="124" y="171"/>
                  </a:lnTo>
                  <a:lnTo>
                    <a:pt x="147" y="142"/>
                  </a:lnTo>
                  <a:lnTo>
                    <a:pt x="149" y="138"/>
                  </a:lnTo>
                  <a:lnTo>
                    <a:pt x="150" y="132"/>
                  </a:lnTo>
                  <a:lnTo>
                    <a:pt x="149" y="126"/>
                  </a:lnTo>
                  <a:lnTo>
                    <a:pt x="147" y="123"/>
                  </a:lnTo>
                  <a:lnTo>
                    <a:pt x="131" y="10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6"/>
            <p:cNvSpPr/>
            <p:nvPr/>
          </p:nvSpPr>
          <p:spPr>
            <a:xfrm>
              <a:off x="5510520" y="5151600"/>
              <a:ext cx="14760" cy="162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0" h="24">
                  <a:moveTo>
                    <a:pt x="5" y="24"/>
                  </a:moveTo>
                  <a:lnTo>
                    <a:pt x="0" y="1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16" y="21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7"/>
            <p:cNvSpPr/>
            <p:nvPr/>
          </p:nvSpPr>
          <p:spPr>
            <a:xfrm>
              <a:off x="5700960" y="508104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3" h="23">
                  <a:moveTo>
                    <a:pt x="18" y="0"/>
                  </a:moveTo>
                  <a:lnTo>
                    <a:pt x="23" y="6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8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4240080" y="42357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13">
                  <a:moveTo>
                    <a:pt x="0" y="8"/>
                  </a:moveTo>
                  <a:lnTo>
                    <a:pt x="4" y="0"/>
                  </a:lnTo>
                  <a:lnTo>
                    <a:pt x="16" y="3"/>
                  </a:lnTo>
                  <a:lnTo>
                    <a:pt x="4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4240080" y="42357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13">
                  <a:moveTo>
                    <a:pt x="0" y="8"/>
                  </a:moveTo>
                  <a:lnTo>
                    <a:pt x="4" y="0"/>
                  </a:lnTo>
                  <a:lnTo>
                    <a:pt x="16" y="3"/>
                  </a:lnTo>
                  <a:lnTo>
                    <a:pt x="4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4102560" y="4087440"/>
              <a:ext cx="29880" cy="17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5" h="26">
                  <a:moveTo>
                    <a:pt x="22" y="23"/>
                  </a:moveTo>
                  <a:lnTo>
                    <a:pt x="12" y="21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0" y="19"/>
                  </a:lnTo>
                  <a:lnTo>
                    <a:pt x="45" y="21"/>
                  </a:lnTo>
                  <a:lnTo>
                    <a:pt x="45" y="26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4083840" y="3942000"/>
              <a:ext cx="7920" cy="17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25">
                  <a:moveTo>
                    <a:pt x="8" y="25"/>
                  </a:moveTo>
                  <a:lnTo>
                    <a:pt x="0" y="12"/>
                  </a:lnTo>
                  <a:lnTo>
                    <a:pt x="8" y="0"/>
                  </a:lnTo>
                  <a:lnTo>
                    <a:pt x="12" y="7"/>
                  </a:lnTo>
                  <a:lnTo>
                    <a:pt x="8" y="24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3958560" y="3879360"/>
              <a:ext cx="42120" cy="612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64" h="89">
                  <a:moveTo>
                    <a:pt x="33" y="48"/>
                  </a:moveTo>
                  <a:lnTo>
                    <a:pt x="16" y="2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3" y="53"/>
                  </a:lnTo>
                  <a:lnTo>
                    <a:pt x="48" y="73"/>
                  </a:lnTo>
                  <a:lnTo>
                    <a:pt x="39" y="87"/>
                  </a:lnTo>
                  <a:lnTo>
                    <a:pt x="58" y="89"/>
                  </a:lnTo>
                  <a:lnTo>
                    <a:pt x="64" y="85"/>
                  </a:lnTo>
                  <a:lnTo>
                    <a:pt x="53" y="71"/>
                  </a:lnTo>
                  <a:lnTo>
                    <a:pt x="39" y="58"/>
                  </a:lnTo>
                  <a:lnTo>
                    <a:pt x="33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3596760" y="3757320"/>
              <a:ext cx="14760" cy="104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3" h="15">
                  <a:moveTo>
                    <a:pt x="2" y="0"/>
                  </a:moveTo>
                  <a:lnTo>
                    <a:pt x="23" y="0"/>
                  </a:lnTo>
                  <a:lnTo>
                    <a:pt x="14" y="15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4357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58920" y="2133720"/>
            <a:ext cx="64008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NÓMINA DE CENTROS EDUCATIVOS, CLASIFICADOS POR DIRECCIÓN REGIONAL Y CIRCUITO,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CuadroTexto"/>
          <p:cNvSpPr/>
          <p:nvPr/>
        </p:nvSpPr>
        <p:spPr>
          <a:xfrm>
            <a:off x="2857680" y="5857920"/>
            <a:ext cx="30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JUNIO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CuadroTexto"/>
          <p:cNvSpPr/>
          <p:nvPr/>
        </p:nvSpPr>
        <p:spPr>
          <a:xfrm>
            <a:off x="3500280" y="442908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 Nº 335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5 CuadroTexto"/>
          <p:cNvSpPr/>
          <p:nvPr/>
        </p:nvSpPr>
        <p:spPr>
          <a:xfrm>
            <a:off x="7143840" y="642960"/>
            <a:ext cx="13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alibri"/>
              </a:rPr>
              <a:t>ISSN-1409-046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21:20:52Z</dcterms:created>
  <dc:creator>mquiros</dc:creator>
  <dc:description/>
  <dc:language>en-US</dc:language>
  <cp:lastModifiedBy>mquiros</cp:lastModifiedBy>
  <dcterms:modified xsi:type="dcterms:W3CDTF">2012-06-08T13:54:05Z</dcterms:modified>
  <cp:revision>18</cp:revision>
  <dc:subject/>
  <dc:title>Ministerio de Educación Pública Dirección de Planificación Institucional Departamento de Análisis Estadístico</dc:title>
</cp:coreProperties>
</file>