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914400" y="3390840"/>
            <a:ext cx="5029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Seccion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en III Ciclo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y Educación Diversificada,  Diurna y Nocturna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en Escuelas Nocturnas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en I y II Ciclos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en Educación Preescolar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Resumen de Matrícula Inicial,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2013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Serie Histórica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de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26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Instituciones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y Servicios Educativos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26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Tasas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Brutas y Netas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de Escolaridad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Matrícula Inicial,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Según País de Procedencia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Indicadores en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I y II Ciclos, por Tipo de Dirección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en Educación Especial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52280" y="2195640"/>
            <a:ext cx="65534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en III Ciclo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y Educación Diversificada, Nocturna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en III Ciclo 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700" spc="-1" strike="noStrike">
                <a:solidFill>
                  <a:srgbClr val="000000"/>
                </a:solidFill>
                <a:latin typeface="Century Schoolbook"/>
              </a:rPr>
              <a:t>y Educación Diversificada, Técnica Diurna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Matrícula Inicial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en III Ciclo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y Educación Diversificada, Académica Diurna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8T10:51:30Z</dcterms:created>
  <dc:creator>DIXIE BRENES VINDAS</dc:creator>
  <dc:description/>
  <cp:keywords/>
  <dc:language>en-US</dc:language>
  <cp:lastModifiedBy>Mayra Quiros Jimenez</cp:lastModifiedBy>
  <cp:lastPrinted>1999-08-09T16:29:38Z</cp:lastPrinted>
  <dcterms:modified xsi:type="dcterms:W3CDTF">2013-09-11T18:11:43Z</dcterms:modified>
  <cp:revision>31</cp:revision>
  <dc:subject/>
  <dc:title>Serie Histórica  de la Matrícula Inicial</dc:title>
</cp:coreProperties>
</file>