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58400" cy="7772400"/>
  <p:notesSz cx="70024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509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040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6368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SERIE HISTÓ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RESUMEN 20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EDUCACIÓN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PRE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I Y II CIC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ESCUELAS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NOCTU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III CICLO Y EDUCACIÓN DIVERSIFICADA, ACADÉMICA DI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6120" y="2971800"/>
            <a:ext cx="855036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III CICLO Y EDUCACIÓN DIVERSIFICADA,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 TÉCNICA DI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55036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III CICLO Y EDUCACIÓN DIVERSIFICADA, NOCT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550360" cy="1295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Book Antiqua"/>
              </a:rPr>
              <a:t>III CICLO Y EDUCACIÓN DIVERSIFICADA, DIURNA Y NOCTU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3T15:05:46Z</dcterms:created>
  <dc:creator>OFICIALIA MAYOR</dc:creator>
  <dc:description/>
  <cp:keywords/>
  <dc:language>en-US</dc:language>
  <cp:lastModifiedBy>Mayra Quiros Jimenez</cp:lastModifiedBy>
  <cp:lastPrinted>2013-03-04T16:02:50Z</cp:lastPrinted>
  <dcterms:modified xsi:type="dcterms:W3CDTF">2014-02-27T14:59:21Z</dcterms:modified>
  <cp:revision>24</cp:revision>
  <dc:subject/>
  <dc:title>SERIE HISTÓRICA</dc:title>
</cp:coreProperties>
</file>