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135160" y="3125880"/>
            <a:ext cx="5254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IE HISTÓ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5160" y="2668680"/>
            <a:ext cx="52545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DUADOS COMO TÉCNICOS ME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135160" y="3125880"/>
            <a:ext cx="5254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Y II 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135160" y="3125880"/>
            <a:ext cx="5254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CUELAS NOCTUR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5160" y="2516040"/>
            <a:ext cx="525456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CICLO Y EDUCACIÓN DIVERSIFICAD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U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5160" y="2516040"/>
            <a:ext cx="525456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CICLO Y EDUCACIÓN DIVERSIFICAD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URNA Y NOCTU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5160" y="2516040"/>
            <a:ext cx="525456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CICLO Y EDUCACIÓN DIVERSIFICAD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DÉMICA DIU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35160" y="2516040"/>
            <a:ext cx="525456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CICLO Y EDUCACIÓN DIVERSIFICAD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ÉCNICA DIU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35160" y="2516040"/>
            <a:ext cx="525456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CICLO Y EDUCACIÓN DIVERSIFICAD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DÉMICA NOCTU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35160" y="2516040"/>
            <a:ext cx="525456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CICLO Y EDUCACIÓN DIVERSIFICAD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ÉCNICA NOCTU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10:31:36Z</dcterms:created>
  <dc:creator>OFICIALIA MAYOR</dc:creator>
  <dc:description/>
  <cp:keywords/>
  <dc:language>en-US</dc:language>
  <cp:lastModifiedBy>mquiros</cp:lastModifiedBy>
  <cp:lastPrinted>1999-03-11T19:25:44Z</cp:lastPrinted>
  <dcterms:modified xsi:type="dcterms:W3CDTF">2011-02-28T17:48:21Z</dcterms:modified>
  <cp:revision>18</cp:revision>
  <dc:subject/>
  <dc:title>Sin título de diapositiva</dc:title>
</cp:coreProperties>
</file>