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III Ciclo y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ducación Diversificada Técnica Noct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203040" y="2543040"/>
            <a:ext cx="894096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III Ciclo y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ducación Diversificada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Técnica Di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III Ciclo y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ducación Diversificada Académica Di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III Ciclo y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ducación Diversificada Académica Noct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III Ciclo y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Educación Diversificada 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800" spc="-1" strike="noStrike">
                <a:solidFill>
                  <a:srgbClr val="000000"/>
                </a:solidFill>
                <a:latin typeface="Century Schoolbook"/>
              </a:rPr>
              <a:t>Diurna y Nocturna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scuelas Nocturn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I y II Cic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03040" y="2543040"/>
            <a:ext cx="873792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Serie Históri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8T10:51:30Z</dcterms:created>
  <dc:creator>DIXIE BRENES VINDAS</dc:creator>
  <dc:description/>
  <cp:keywords/>
  <dc:language>en-US</dc:language>
  <cp:lastModifiedBy>mquiros</cp:lastModifiedBy>
  <cp:lastPrinted>1999-10-14T15:26:00Z</cp:lastPrinted>
  <dcterms:modified xsi:type="dcterms:W3CDTF">2012-08-24T20:51:31Z</dcterms:modified>
  <cp:revision>22</cp:revision>
  <dc:subject/>
  <dc:title>Serie Histórica  de la Matrícula Inicial</dc:title>
</cp:coreProperties>
</file>